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A61-4B67-4505-89B1-03BBA63C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CC0-0EB3-4236-BA63-0E817BF7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CB2-69C3-4A21-B16B-663E2AAA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7AD-5DCB-4432-9259-6F6C65C2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1EA-3272-4E07-9FCB-7BAE5D2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8F9-CEAD-4A7B-B332-2CD7D1FF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136-FED1-4794-B733-FF700D5D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037-6EAA-43F3-B9BD-3C91E307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755-A5C5-40F7-85D8-B43EA2A4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CE6-E9E7-4BF8-844C-3C54642D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078-65A4-4C7F-ABA1-CCF0351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5F8-E2D7-4B23-A789-BAD3822E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0446-BDAF-4539-ADCE-7851B48497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447920"/>
            <a:ext cx="8381880" cy="1373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DATTICA DELL’ARITM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LLA SCUOLA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42670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PERIENZE  DIDAT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8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89000"/>
            <a:ext cx="838188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7 Considera due numeri e sommali, poi eleva il risultato al quadrato e quindi sottrai il doppio prodotto del primo per il secondo. Uguaglia questo risultato alla somma dei quadrati dei due num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73,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4640" y="3886200"/>
            <a:ext cx="5563440" cy="1557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zione di messa in formula in due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+b=c         c^2 – 2ab = a^2 +b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 nume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89000"/>
            <a:ext cx="8381880" cy="825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8 Esprimi che la differenza dei quadrati di due numeri è uguale al prodotto della loro somma per la loro diffe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88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05720" y="3886200"/>
            <a:ext cx="2867400" cy="825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a-b)^2 = (a+b) (a-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 nume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8900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9 In un viaggio di complessivi 200 Km viene effettuata una tappa di una data lunghezza e quindi una sosta; il percorso successivo è quattro volte quello della prima tap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54,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2720" y="3886200"/>
            <a:ext cx="5366880" cy="265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fficoltà di rappres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=1/5  200  percorso successivo=4/5 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00-(200 x 1/5)=200 x 4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=200/5   v=4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00=x+4x+y   y=s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a+a=5a  (200 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ima tappa=a   seconda tappa= 4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89000"/>
            <a:ext cx="8381880" cy="825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10  Esprimi con una relazione che in una classe di 28 alunni le ragazze sono 6 in più dei ragazz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47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33040" y="3886200"/>
            <a:ext cx="2052360" cy="192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=b+6 a+b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+6x 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+b+6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=(28-6)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8900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11 Considera due parti di un dato volume V, sommale tra loro e moltiplicale tra loro. Quindi fai il rapporto tra i risulati ottenuti e poni questo rapporto uguale a 2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4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46320" y="3886200"/>
            <a:ext cx="4606560" cy="1557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+b / a-b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=a+b   a+b / a-b 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1/2 V  + ¼ V)+(1/2 V x 1/4V ) 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9000"/>
            <a:ext cx="8381880" cy="825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12  Dato un segmento di lunghezza a, esprimi che il rapporto tra la somma di due sue parti e il prodotto delle stesse vale 7/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2,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03080" y="3886200"/>
            <a:ext cx="2096280" cy="825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+y / x-y = 7/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219320"/>
            <a:ext cx="7481880" cy="2105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Quesiti procedur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69,9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54080" y="3772080"/>
            <a:ext cx="7481880" cy="2105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Quesiti rela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63,2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457200"/>
            <a:ext cx="7634160" cy="2775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3c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SPERIENZA ANALOGA IN 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               V ELEMEN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2520" y="4478400"/>
            <a:ext cx="34009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. Procedurali    57,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. Relazionali     48,4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457200"/>
            <a:ext cx="7634160" cy="1800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RITMETICA E PROBABILIT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789360"/>
            <a:ext cx="763416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RITMETICA E STATI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457200"/>
            <a:ext cx="7864200" cy="18003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RITM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789360"/>
            <a:ext cx="763416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TECN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270828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Q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 e II Liceo Scientifico  (1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V e V Ginnasio (9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OTALE    244 sogge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914400"/>
            <a:ext cx="838188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1   Aggiungi 12 al numero a  e poni il risultato uguale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95,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3720" y="3886200"/>
            <a:ext cx="6383520" cy="2288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cessità di scrivere anche una prova nu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=12    a+c=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+12=b   x+12=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=3  b=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2+5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914400"/>
            <a:ext cx="8381880" cy="825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2   Un numero x è inferiore di 7 rispetto al doppio di un nume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71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64600" y="3886200"/>
            <a:ext cx="1311480" cy="265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-7=2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-7&lt;2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&lt;7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2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lt;7=y+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lt;7&lt;2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2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914400"/>
            <a:ext cx="838188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3   Sottrai un numero b da un numero a e ottieni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88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11040" y="3886200"/>
            <a:ext cx="1218600" cy="192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-a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-b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+5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-1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914400"/>
            <a:ext cx="838188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4 Un numero a supera di 5 il triplo di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75,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43080" y="3886200"/>
            <a:ext cx="1154520" cy="265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+5=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=3b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&gt;5+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+5&gt;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5=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7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0464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5 Aggiungi ad un numero a il triplo di un altro numero b, dividi il risultato ottenuto per il numero b diminuito di 2 e poni il quoziente ottenuto uguale 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92,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13320" y="3886200"/>
            <a:ext cx="3617280" cy="192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+3b:(b-2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a+3b) : b -2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+3b -&gt; 3ab: (b-2) -&gt;3a-6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b=c, b-2=d -&gt;a+c/d  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404640"/>
            <a:ext cx="8381880" cy="825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6 Esprimi che il quoziente tra la differenza di a con il doppio di b e la somma tra il doppio di b e il triplo di a è uguale a d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83,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45440" y="3886200"/>
            <a:ext cx="3361320" cy="1557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-2b ^ 2b +3a 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- (b-2) : (b-2) + (a-3) 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+2b  /  2b +3a  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89000"/>
            <a:ext cx="838188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7 Considera due numeri e sommali, poi eleva il risultato al quadrato e quindi sottrai il doppio prodotto del primo per il secondo. Uguaglia questo risultato alla somma dei quadrati dei due num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0688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73,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4640" y="3886200"/>
            <a:ext cx="5563440" cy="1557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zione di messa in formula in due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+b=c         c^2 – 2ab = a^2 +b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 nume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07:59:02Z</dcterms:created>
  <dc:creator>Prof.ssa Bazzini</dc:creator>
  <dc:description/>
  <dc:language>en-US</dc:language>
  <cp:lastModifiedBy>pincopallino</cp:lastModifiedBy>
  <dcterms:modified xsi:type="dcterms:W3CDTF">2002-11-28T19:30:36Z</dcterms:modified>
  <cp:revision>27</cp:revision>
  <dc:subject/>
  <dc:title>Nessun titolo diapositiva</dc:title>
</cp:coreProperties>
</file>