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8B2-C9EC-450D-BEAB-487119D8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339-50EC-4D2D-8ECF-2AF8B35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129-6C56-4363-BA65-C8447613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FD6-70B1-4B3D-B7EF-86E78E10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9E6-E8C0-496E-83B9-7F06255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990-C178-42E0-ABAB-49EA09BC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5F2-E88F-4A6E-87B6-2F95E70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317-72D5-48E6-AEBB-5AB84D2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573-50C3-406A-8C25-10796A73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06D-6ECB-42D3-9D72-453AFCA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A67-FFE1-4708-8F19-984183D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93E-5D05-48B1-A82C-3AE7B33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F73-06FB-48FB-BAD0-E950F6113D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333360"/>
            <a:ext cx="8381880" cy="1373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DATTICA DELL’ARITME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A SCUOLA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549360"/>
            <a:ext cx="7481880" cy="247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UNA STORIA LUNGA E TRAVAGLI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3500280"/>
            <a:ext cx="7345440" cy="2654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LGEBRA RETO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INCOP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IMBO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415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26920" y="90792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'Algeb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4191120"/>
            <a:ext cx="8077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esta tarda venuta...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1280" y="189000"/>
            <a:ext cx="6870600" cy="2166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PPORTUNA INTRODUZIONE DEI SIMBO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N DALL’ARITMET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 rot="10587600">
            <a:off x="1044360" y="4221000"/>
            <a:ext cx="7489800" cy="1739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cc"/>
            </a:solidFill>
            <a:miter/>
          </a:ln>
          <a:effectLst>
            <a:outerShdw dist="153753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Black"/>
              </a:rPr>
              <a:t>I SIMBOLI DEVONO TRASCINARE DEI SIGNIF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SIGNIFIC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SIMB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162920" cy="2133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 Black"/>
              </a:rPr>
              <a:t>PENSI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819520"/>
            <a:ext cx="1905120" cy="1295280"/>
          </a:xfrm>
          <a:custGeom>
            <a:avLst/>
            <a:gdLst>
              <a:gd name="textAreaLeft" fmla="*/ 0 w 1905120"/>
              <a:gd name="textAreaRight" fmla="*/ 1905480 w 190512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343400"/>
            <a:ext cx="7010280" cy="2057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 Black"/>
              </a:rPr>
              <a:t>LINGUAGG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0640"/>
            <a:ext cx="7481880" cy="5213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 Black"/>
              </a:rPr>
              <a:t>FOC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 Black"/>
              </a:rPr>
              <a:t>SULL’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333360"/>
            <a:ext cx="5903640" cy="265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ODELLI TEORICI DI INTERPRE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Sfard, ABC, Duv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4076640"/>
            <a:ext cx="6191280" cy="210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TUDI DI RICER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549360"/>
            <a:ext cx="5904000" cy="265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ODELLI TEORICI DI INTERPRE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Sfard, ABC, Duv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8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457200"/>
            <a:ext cx="763416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3c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 Black"/>
              </a:rPr>
              <a:t>ARITMETICA E LE ALTR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3213000"/>
            <a:ext cx="2305080" cy="115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ALGEB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2637000"/>
            <a:ext cx="2449440" cy="115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GE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013360"/>
            <a:ext cx="237636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STAT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5013360"/>
            <a:ext cx="280980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PROBABIL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79640" y="1628280"/>
            <a:ext cx="136836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936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1413000"/>
            <a:ext cx="194472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484280"/>
            <a:ext cx="86508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7634160" cy="19220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53753" dir="2700000" blurRad="0" rotWithShape="0">
              <a:srgbClr val="79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DURE  E REL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500280"/>
            <a:ext cx="8166240" cy="26535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9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SSI  </a:t>
            </a:r>
            <a:r>
              <a:rPr b="1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   OGGET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kemp, 1971; Sfard,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cetti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all, 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 Black"/>
              </a:rPr>
              <a:t>Dal processo all’ogget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terior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de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if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9144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ATE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0560" y="3886200"/>
            <a:ext cx="43657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E DI NON FARE I CO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0560" y="58323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is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295280"/>
            <a:ext cx="7481880" cy="48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                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zarello, Bazzini e Chiappini, 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03640" y="2492280"/>
            <a:ext cx="1152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492280"/>
            <a:ext cx="122400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43700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7016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819520" y="2057400"/>
            <a:ext cx="1447560" cy="761760"/>
            <a:chOff x="2819520" y="2057400"/>
            <a:chExt cx="1447560" cy="761760"/>
          </a:xfrm>
        </p:grpSpPr>
        <p:sp>
          <p:nvSpPr>
            <p:cNvPr id="106" name=""/>
            <p:cNvSpPr/>
            <p:nvPr/>
          </p:nvSpPr>
          <p:spPr>
            <a:xfrm>
              <a:off x="2819520" y="2057400"/>
              <a:ext cx="1447560" cy="76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047760" y="2133360"/>
                  <a:ext cx="97128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" name=""/>
          <p:cNvGrpSpPr/>
          <p:nvPr/>
        </p:nvGrpSpPr>
        <p:grpSpPr>
          <a:xfrm>
            <a:off x="304920" y="2057400"/>
            <a:ext cx="1447560" cy="761760"/>
            <a:chOff x="304920" y="2057400"/>
            <a:chExt cx="1447560" cy="761760"/>
          </a:xfrm>
        </p:grpSpPr>
        <p:sp>
          <p:nvSpPr>
            <p:cNvPr id="109" name=""/>
            <p:cNvSpPr/>
            <p:nvPr/>
          </p:nvSpPr>
          <p:spPr>
            <a:xfrm>
              <a:off x="304920" y="2057400"/>
              <a:ext cx="1447560" cy="761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80880" y="2133360"/>
                  <a:ext cx="12949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048120" cy="2271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3880" y="5181480"/>
            <a:ext cx="1447920" cy="52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2160" y="500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1919160"/>
            <a:ext cx="1447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919160"/>
            <a:ext cx="1447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67200" y="2011320"/>
                <a:ext cx="14684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681280"/>
            <a:ext cx="3048120" cy="2271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5880" y="5043600"/>
            <a:ext cx="1447920" cy="5205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464600" y="2054160"/>
                <a:ext cx="1438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2913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1981080"/>
            <a:ext cx="3962160" cy="825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ea del rettangolo di lati n   e  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6172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6324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6629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791320"/>
            <a:ext cx="15264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6172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6172200"/>
            <a:ext cx="2514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019920"/>
            <a:ext cx="28195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6477120"/>
            <a:ext cx="9907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6400800"/>
            <a:ext cx="15228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609588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715000"/>
            <a:ext cx="290340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(n+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63244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523880"/>
            <a:ext cx="1981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133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81080"/>
            <a:ext cx="3886200" cy="825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otto di due numeri consecu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2913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76920" y="1981080"/>
            <a:ext cx="396216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4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6172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324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6629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791320"/>
            <a:ext cx="15264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6172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6172200"/>
            <a:ext cx="2514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6019920"/>
            <a:ext cx="281952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6477120"/>
            <a:ext cx="9907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6400800"/>
            <a:ext cx="15228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609588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715000"/>
            <a:ext cx="290340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63244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523880"/>
            <a:ext cx="1981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2133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981080"/>
            <a:ext cx="388620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600200"/>
            <a:ext cx="7634160" cy="2105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TTIVAZIONE DI SENSI DIVER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IA’ NELLE SCRITTURE ARITMET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429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3933720"/>
            <a:ext cx="8077320" cy="143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3c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i ha conoscenza quando c’è coordinazione tra i diversi regist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76280"/>
            <a:ext cx="8138880" cy="143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3c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versi registri di rappresentazione (Duval, 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4508640"/>
            <a:ext cx="7086600" cy="1981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GEOMET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STATI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PROBABILITA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144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ATEMA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886200"/>
            <a:ext cx="33847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43480" y="38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3860640"/>
            <a:ext cx="302436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EMP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...............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RITME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620640"/>
            <a:ext cx="8076960" cy="576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 Black"/>
              </a:rPr>
              <a:t>PENSIERO ALGEBRICO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EGISTRO PER RAPPRESENT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 RISOLVERE PROBLE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INGUAGGIO E STRUMENTO DI PENS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26920" y="620640"/>
            <a:ext cx="11080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162920" cy="19051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CONTINUITA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743200"/>
            <a:ext cx="1904760" cy="1295280"/>
          </a:xfrm>
          <a:custGeom>
            <a:avLst/>
            <a:gdLst>
              <a:gd name="textAreaLeft" fmla="*/ 0 w 1904760"/>
              <a:gd name="textAreaRight" fmla="*/ 1905120 w 1904760"/>
              <a:gd name="textAreaTop" fmla="*/ 399960 h 1295280"/>
              <a:gd name="textAreaBottom" fmla="*/ 895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6671"/>
                </a:moveTo>
                <a:lnTo>
                  <a:pt x="0" y="14929"/>
                </a:lnTo>
                <a:lnTo>
                  <a:pt x="8100" y="14929"/>
                </a:lnTo>
                <a:lnTo>
                  <a:pt x="8100" y="18900"/>
                </a:lnTo>
                <a:lnTo>
                  <a:pt x="5832" y="18900"/>
                </a:lnTo>
                <a:lnTo>
                  <a:pt x="10800" y="21600"/>
                </a:lnTo>
                <a:lnTo>
                  <a:pt x="15768" y="18900"/>
                </a:lnTo>
                <a:lnTo>
                  <a:pt x="13500" y="18900"/>
                </a:lnTo>
                <a:lnTo>
                  <a:pt x="13500" y="14929"/>
                </a:lnTo>
                <a:lnTo>
                  <a:pt x="21600" y="14929"/>
                </a:lnTo>
                <a:lnTo>
                  <a:pt x="21600" y="6671"/>
                </a:lnTo>
                <a:lnTo>
                  <a:pt x="13500" y="6671"/>
                </a:lnTo>
                <a:lnTo>
                  <a:pt x="13500" y="2700"/>
                </a:lnTo>
                <a:lnTo>
                  <a:pt x="15768" y="2700"/>
                </a:lnTo>
                <a:lnTo>
                  <a:pt x="10800" y="0"/>
                </a:lnTo>
                <a:lnTo>
                  <a:pt x="5832" y="2700"/>
                </a:lnTo>
                <a:lnTo>
                  <a:pt x="8100" y="2700"/>
                </a:lnTo>
                <a:lnTo>
                  <a:pt x="8100" y="667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572000"/>
            <a:ext cx="7086600" cy="19810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FRAT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01280" y="300204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62120" y="1600200"/>
            <a:ext cx="8076960" cy="33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UO’ L’ARITMETICA PREPAR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LL’ALGEB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2120" y="1600200"/>
            <a:ext cx="8076960" cy="3385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UO’ L’ALGEBRA ILLUMIN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’ARITMET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OPE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1665360"/>
            <a:ext cx="5329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TEMPL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367080" cy="487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71640" y="476280"/>
            <a:ext cx="31208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440" y="990720"/>
            <a:ext cx="2952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14800"/>
            <a:ext cx="8382240" cy="119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i non miriamo alle cose che si vedono, ma a quelle che non si vedono. Infatti le cose che si vedono sono temporanee, quelle che non si vedono sono eter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0920" y="5832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an Pa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685800" cy="1371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914400"/>
            <a:ext cx="8381880" cy="70344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ff66ff"/>
            </a:solidFill>
            <a:miter/>
          </a:ln>
          <a:effectLst>
            <a:outerShdw dist="107932" dir="189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ARITME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905120"/>
            <a:ext cx="685800" cy="1371600"/>
          </a:xfrm>
          <a:prstGeom prst="downArrow">
            <a:avLst>
              <a:gd name="adj1" fmla="val 55093"/>
              <a:gd name="adj2" fmla="val 65278"/>
            </a:avLst>
          </a:prstGeom>
          <a:gradFill rotWithShape="0">
            <a:gsLst>
              <a:gs pos="0">
                <a:srgbClr val="ffff99"/>
              </a:gs>
              <a:gs pos="100000">
                <a:srgbClr val="8282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886200"/>
            <a:ext cx="338472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43480" y="38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860640"/>
            <a:ext cx="302436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EMP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1107" t="1499" r="1107" b="1499"/>
          <a:stretch/>
        </p:blipFill>
        <p:spPr>
          <a:xfrm>
            <a:off x="2193840" y="3840120"/>
            <a:ext cx="3151440" cy="232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6172200"/>
            <a:ext cx="52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87280" y="1989000"/>
            <a:ext cx="7452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a storia del simbolism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07:59:02Z</dcterms:created>
  <dc:creator>Prof.ssa Bazzini</dc:creator>
  <dc:description/>
  <dc:language>en-US</dc:language>
  <cp:lastModifiedBy>pincopallino</cp:lastModifiedBy>
  <dcterms:modified xsi:type="dcterms:W3CDTF">2002-11-13T23:00:43Z</dcterms:modified>
  <cp:revision>27</cp:revision>
  <dc:subject/>
  <dc:title>Nessun titolo diapositiva</dc:title>
</cp:coreProperties>
</file>