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1481-E430-4057-9E93-D1C0827B4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208-FD54-4D4A-9CB5-D7D4F6A4E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4C4-8D16-4E2E-A3A8-3643E439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CEF6-07B6-4161-BF20-681AF0F5A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93961-6EAB-4F7D-BBCE-7E01B0E65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D0B1F-EFDE-467C-86EA-08B5EF244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E10F-DC23-423E-B08C-61669C426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E23E-A9B3-42F6-95B8-2499F34F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AA9F-14F9-47E9-8FA7-B0E9A1C8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1870-6E1F-4FA8-917D-AAA8B386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93763-A2F4-4064-8D17-59E93B996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EC1E-8496-41A4-8745-08F2FCEA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A74D-9ED4-44CB-A540-09A81E06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A52D-3A22-4254-BEE8-2BD86F2B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255EF-122D-4C36-853A-E8BE4CA9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8A597-ABB0-4806-8C48-96B3A316A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A532-03D6-4BA4-8303-A9A6E9793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CB15-073A-4701-AE8E-67B66169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E3CE-9431-4B9E-B94D-530A9B72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6DE-5408-47D6-89B0-ABED630B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CA28-9E12-4E8B-B674-FBEDA409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465F-9639-4342-AE9A-9ABCECD7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D50-4D62-4529-824C-068DE95C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3C4-C479-4A4D-81A3-A71764D72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898EF-F60D-462C-81FA-3558DCF7ADDB}" type="slidenum">
              <a:rPr b="0" lang="en-US" sz="1400" spc="-1" strike="noStrike">
                <a:solidFill>
                  <a:srgbClr val="0066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34ED-F1E1-450E-9901-C41EE588649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0066ff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0066ff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66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66ff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66ff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66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ff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LEGGE-DELEGA  “MORATTI” RIFORMA DELLA SCUOLA</a:t>
            </a:r>
            <a:br>
              <a:rPr sz="3600"/>
            </a:br>
            <a:r>
              <a:rPr b="1" lang="en-US" sz="3600" spc="-1" strike="noStrike">
                <a:solidFill>
                  <a:srgbClr val="0066ff"/>
                </a:solidFill>
                <a:latin typeface="Times New Roman"/>
              </a:rPr>
              <a:t>LEGGE 28 MARZO 2003, N.53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 cura d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                                  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 d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               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avia Gennaio 2003- Novembre 2003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666880" y="3581280"/>
            <a:ext cx="24670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ianfranco Ghilardotti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419720" y="4495680"/>
            <a:ext cx="2466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rmida Sabbatini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STRUZIONE  E  FORMAZIONE SECONDARIA  DI   II°  GRADO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LEGGE 28 MARZO 2003, N.53</a:t>
            </a:r>
            <a:endParaRPr b="1" lang="en-US" sz="18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ai 14 ai 19 ann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urata: 5 ann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Scelta, a 14 anni, tra due tipologie formative: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- Sistema dei licei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- Sistema dell’Istruzione e della formazione professionale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1640" y="1142640"/>
            <a:ext cx="4343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Legge 30 e decreti successivi 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ai 13 ai 18 ann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urata: 5 ann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Scelta, a 13 anni, tra cinque tipologie di licei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Moduli orientativi, nel II° anno, con la formazione professionale finalizzati alla scelta successiva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Scelta a 15 anni tra proseguimento percorsi formativi: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-   nei licei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-   nella formazione professionale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-   nell’apprendistato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243828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327672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121932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763120" y="1219320"/>
            <a:ext cx="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83908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82880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662940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502920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17C3-6535-4E56-88DC-830ECFAC8C3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STRUZIONE  E  FORMAZIONE SECONDARIA  DI   II°  GRADO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Superamento dell’idea di esclusività di un percorso attraverso la certificazione delle competenze finali che si possono maturare in diversi ambienti formativi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assaggio da un indirizzo a un altro dei due sistemi attraverso: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- certificazione delle competenze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apposite iniziative didattiche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same di Stato: diploma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164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ercorsi integrati tra scuola e formazione professionale al fine del raggiungimento della qualifica e del diploma o dell’accertamento dei crediti per ulteriori percorsi formativi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Riconoscimento dei crediti extrascuola ai fini dell’esame di stato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Passaggio da un indirizzo a un altro dei due sistemi  attraverso: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- riconoscimento dei crediti formativi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- moduli integrativi organizzati tra scuole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same di Stato: diploma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Qualifica professionale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556272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121932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763120" y="1219320"/>
            <a:ext cx="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83908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42900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662940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028D-071C-4EB7-BE4E-35DB86F240A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STRUZIONE  SECONDARIA  DI   II°  GRADO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8 licei suddivisi in più indirizzi: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   classico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   linguistico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   scientifico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   tecnologico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   economico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   delle scienze umane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   musicale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   artistico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164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Scansione in due cicli biennali tra loro progressivi e successivi.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Esame di Stato finale: Diploma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Accesso all’istruzione superiore previo accertamento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Coesistenza di più licei nella stessa istituzione scolastica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21932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8580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63120" y="1219320"/>
            <a:ext cx="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83908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662940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1D0-80C5-460F-A26F-7F460143DC7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RMAZIONE  SECONDARIA  in ALTERNANZA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1911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Rivolta a: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182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chi, dopo aver frequentato il I° anno di corsi di qualifica o di diploma, vuole maturare i  processi di apprendimento anche attraverso un’esperienza lavorativa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1640" y="1142640"/>
            <a:ext cx="4343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Titoli conseguiti: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naloghi a quelli del tempo pieno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urata: un anno in più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Struttura del percorso formativo: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 400 ore annue formative esterne all’azienda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-  360 ore di apprendimento pilotato piuttosto che di produzione in azienda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1219320"/>
            <a:ext cx="83818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763120" y="1219320"/>
            <a:ext cx="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839080" y="1219320"/>
            <a:ext cx="0" cy="54100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" y="6629400"/>
            <a:ext cx="83818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E3DA-9E58-4E99-B545-73A40FCCFED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RMAZIONE  SECONDARIA  in ALTERNANZA</a:t>
            </a:r>
            <a:br>
              <a:rPr sz="3200"/>
            </a:b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686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svolgere l’intera formazione dai 15 ai 18 anni, attraverso l’alternanza di periodi di studio e di lavoro, sotto la responsabilità dell’istituzione scolastica o formativa, sulla base di convenzioni con imprese o con le rispettive associazioni di rappresentanza, o con enti pubblici e privati ivi inclusi quelli del terzo settore, disponibili ad accogliere gli studenti per periodi di tirocinio che non costituiscono rapporto individuale di lavoro;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fornire indicazioni generali per il reperimento e l’assegnazione delle risorse finanziarie necessarie alla realizzazione dei percorsi di alternanza, ivi compresi gli incentivi per le imprese e l’assistenza tutoriale;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80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80880" indent="-380880">
              <a:spcBef>
                <a:spcPts val="499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indicare le modalità di certificazione dell’esito positivo del tirocinio e di valutazione dei crediti formativi acquisiti dallo studente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074160" y="6381360"/>
            <a:ext cx="69840" cy="7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24840" bIns="2484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763120" y="1219320"/>
            <a:ext cx="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6AE-B5E9-4D2A-96DF-E16FA6DF9C5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Finalità Scuola dell’Infanzia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La Scuola dell’Infanzia, di durata triennale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concorre all’educazione e allo sviluppo affettivo, psicomotorio, cognitivo e sociale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delle bambine e dei bambini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promuovendone le potenzialità di relazione, autonomia, creatività, apprendimento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, e ad assicurare un’effettiva eguaglianza delle opportunità educative.</a:t>
            </a:r>
            <a:endParaRPr b="1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44CB-86F1-4529-89AB-0A37B9E2615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Finalità Scuola Primaria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La Scuola Primaria  promuove, nel rispetto delle diversità individuali, lo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sviluppo della personalità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, ed ha il fine di far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acquisire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</a:rPr>
              <a:t> e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sviluppare le conoscenze e le abilità di base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fino alle prime sistemazioni logico critiche, di fare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apprendere i mezzi espressivi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, ivi inclusa l’alfabetizzazione in almeno una lingua dell’Unione Europea oltre alla lingua italiana e l’alfabetizzazione nelle tecnologie informatiche, di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valorizzare le capacità relazionali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</a:rPr>
              <a:t> e di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orientamento nello spazio e nel tempo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, di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educare ai principi fondamentali della convivenza civile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48C-8C84-472D-A0EE-ADFA3B9F30BA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Finalità Scuola Secondaria di I° grado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9640" y="907920"/>
            <a:ext cx="830592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La Scuola Secondaria di primo grado, attraverso le discipline di studio, è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finalizzata alla crescita delle capacità autonome di studio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ed al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rafforzamento delle attitudini alla interazione sociale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;  organizza ed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accresce le conoscenze e le abilità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, anche in relazione alla tradizione culturale e alla evoluzione sociale, culturale e scientifica della realtà contemporanea; è caratterizzata dalla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diversificazione didattica e metodologica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in relazione allo sviluppo della personalità dell’allievo;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cura la dimensione sistematica delle discipline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;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sviluppa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rogressivamente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le competenze e le capacità di scelta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orrispondenti alle attitudini e vocazioni degli allievi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,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fornendo strumenti adeguati alla prosecuzione delle attività di istruzione e di formazione 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37A2-0D82-4CB3-8FCC-A762ACAF9864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Finalità Scuola Secondaria di II° grado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0647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l secondo ciclo è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finalizzato alla crescita educativa, culturale e professionale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dei giovani attraverso il sapere, il fare e l'agire, e la riflessione critica su di essi;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è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finalizzato a sviluppare l’autonoma capacità di giudizio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e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l’esercizio della responsabilità personale e sociale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;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n tale ambito, viene curato lo sviluppo delle conoscenze relative all’uso delle tecnologie informatiche e delle reti. 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49E1-4AF6-44CB-AD5D-F9763E350F8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Piani di studio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ff"/>
              </a:solidFill>
              <a:latin typeface="Times New Roman"/>
            </a:endParaRPr>
          </a:p>
          <a:p>
            <a:pPr lvl="1" marL="365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I piani di studio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, nel rispetto dell’autonomia delle istituzioni scolastiche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contengono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un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nucleo fondamentale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omogeneo su base nazionale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, che rispecchia la cultura, le tradizioni e l’identità nazionale e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prevedono una quota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riservata alle Regioni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relativa agli aspetti di interesse specifico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 delle stesse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, anche collegata con le realtà locali.</a:t>
            </a:r>
            <a:endParaRPr b="1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F06-C708-426E-94FF-138035F6E1F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Per STUDENTI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Diritto-dovere all’istruzione elevato a 12 ann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fino al conseguimento di un diploma o di una qualifica professionale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-Opportunità di scegliere -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dopo l’esame di Stato finale del primo ciclo - tra percorsi liceali e di istruzione e formazione professionale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-Attività di orientamento continuo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er tutti gli studenti di ogni ordine e grado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-Possibilità di passare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 attraverso il riconoscimento di crediti formativi - dal sistema dei licei al sistema di istruzione e formazione professionale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79CD-4892-4176-8F18-1B4D6BA5107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 VALUTAZIONE</a:t>
            </a:r>
            <a:endParaRPr b="0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2803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La valutazione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, periodica e annuale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degli apprendimenti e del comportamento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degli allievi del sistema educativo di istruzione e di formazione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e la certificazione delle competenze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da essi  acquisite,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sono affidate ai docenti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delle istituzioni di istruzione e formazione frequentate;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agli stessi docenti è affidata la valutazione dei periodi didattici ai fini del passaggio al periodo successivo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;</a:t>
            </a:r>
            <a:endParaRPr b="1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07D-63B6-4D92-8B3C-5FFE915EBC12}" type="slidenum">
              <a:t>20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 VALUTAZIONE</a:t>
            </a:r>
            <a:endParaRPr b="0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2803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i fini del progressivo miglioramento della qualità del sistema di istruzione e di formazione, l’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stituto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N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zionale per la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V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alutazione del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istema di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I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struzione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effettua verifiche periodiche e sistematiche sulle conoscenze e abilità degli allievi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e </a:t>
            </a:r>
            <a:r>
              <a:rPr b="1" lang="en-US" sz="3200" spc="-1" strike="noStrike" u="sng">
                <a:solidFill>
                  <a:srgbClr val="0066ff"/>
                </a:solidFill>
                <a:uFillTx/>
                <a:latin typeface="Times New Roman"/>
              </a:rPr>
              <a:t>sulla qualità complessiva dell’offerta formativa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66ff"/>
                </a:solidFill>
                <a:uFillTx/>
                <a:latin typeface="Times New Roman"/>
              </a:rPr>
              <a:t>delle istituzioni scolastiche e formative;</a:t>
            </a: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 in funzione dei predetti compiti vengono rideterminate le funzioni e la struttura del predetto istituto;</a:t>
            </a:r>
            <a:endParaRPr b="1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B9EA3-BBCE-435F-8CFF-7B45E56B8F11}" type="slidenum">
              <a:t>21</a:t>
            </a:fld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4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A VALUTAZIONE</a:t>
            </a:r>
            <a:endParaRPr b="0" lang="en-US" sz="40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280360" cy="493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Times New Roman"/>
              </a:rPr>
              <a:t>L’esame di Stato conclusivo dei cicli di istruzione considera e valuta le competenze acquisite dagli allievi nel corso del ciclo e si svolge su prove organizzate dalle commissioni d’esame e su prove predisposte e gestite dall’Istituto Nazionale per la Valutazione del Sistema di Istruzione, sulla base degli obiettivi specifici di apprendimento del corso ed in relazione alle discipline di insegnamento dell’ultimo anno.</a:t>
            </a:r>
            <a:endParaRPr b="1" lang="en-US" sz="28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BC9F-DEA0-4F64-951F-16C37D0606F3}" type="slidenum">
              <a:t>22</a:t>
            </a:fld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Per STUDENTI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-Personalizzazione dei piani di studio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materie opzionali e laboratori) secondo il progetto culturale e professionale di ciascuno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-Possibilità di accedere a percorsi di studio in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alternanza scuola-lavoro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, presso imprese ed enti non profit, sia nei licei che negli istituti professionali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-Validità nazionale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ed europea dei titoli di studio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-Qualità dell'istruzione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assicurata attraverso un servizio nazionale di valutazione. 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6A66-E25C-46BB-86A9-CE5B5B4738F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</a:t>
            </a: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Per FAMIGLIE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Riconoscimento del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ruolo primario della famiglia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tra le finalità e gli obiettivi del sistema di istruzione e di formazione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Opportunità d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scelta tra attività e tempi di scuola diversi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, anche in relazione ai bisogni e alle esigenze della famiglia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Possibilità - graduale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- d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anticipare l'iscrizione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alla scuola dell'infanzia e alla scuola primaria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E93-CD80-4E16-8FCA-012F65E000A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Symbol"/>
                <a:ea typeface="Symbol"/>
              </a:rPr>
              <a:t></a:t>
            </a:r>
            <a:r>
              <a:rPr b="1" lang="en-US" sz="3600" spc="-1" strike="noStrike">
                <a:solidFill>
                  <a:srgbClr val="0000ff"/>
                </a:solidFill>
                <a:latin typeface="Bookman Old Style"/>
              </a:rPr>
              <a:t>Per DOCENTI</a:t>
            </a:r>
            <a:endParaRPr b="0" lang="en-US" sz="36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Bookman Old Style"/>
              </a:rPr>
              <a:t>-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Formazione universitaria specialistica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(biennio post laurea di primo livello) per gli aspiranti all'insegnamento di ogni ordine e grado di scuola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-Assunzione attraverso un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tirocinio post-laurea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organizzato in collaborazione con le scuole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-Formazione in servizio per lo </a:t>
            </a:r>
            <a:r>
              <a:rPr b="1" lang="it-IT" sz="2000" spc="-1" strike="noStrike">
                <a:solidFill>
                  <a:srgbClr val="000000"/>
                </a:solidFill>
                <a:latin typeface="Bookman Old Style"/>
              </a:rPr>
              <a:t>sviluppo di carriera </a:t>
            </a:r>
            <a:r>
              <a:rPr b="0" lang="it-IT" sz="2000" spc="-1" strike="noStrike">
                <a:solidFill>
                  <a:srgbClr val="000000"/>
                </a:solidFill>
                <a:latin typeface="Bookman Old Style"/>
              </a:rPr>
              <a:t>col supporto dell'Università, degli Istituti di ricerca e formazione (IRRE e INDIRE).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CDD4-C5F2-45DC-9D2E-F47FC411191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L DIRITTO AD UN’ISTRUZIONE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ER TUTTI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LEGGE 28 MARZO 2003, N.53</a:t>
            </a:r>
            <a:endParaRPr b="1" lang="en-US" sz="18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Generalizzazione della scuola dell’infanzia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iritto/dovere ad esperienze educative organizzate di istruzione e formazione fino a 18 anni o comunque fino all’ottenimento di una qualifica, con un minimo di 12 anni di istruzione/formazione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11430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Legge 30, legge 9, legge 144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Generalizzazione della scuola dell’infanzia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bbligo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</a:rPr>
              <a:t>scolastico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fino al 15° anno di età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Obbligo </a:t>
            </a:r>
            <a:r>
              <a:rPr b="1" lang="en-US" sz="2400" spc="-1" strike="noStrike" u="sng">
                <a:solidFill>
                  <a:srgbClr val="0066ff"/>
                </a:solidFill>
                <a:uFillTx/>
                <a:latin typeface="Times New Roman"/>
              </a:rPr>
              <a:t>formativo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fino al 18° anno di età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4360" y="1197000"/>
            <a:ext cx="0" cy="51116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00720" y="1197000"/>
            <a:ext cx="0" cy="51404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17080" y="1197000"/>
            <a:ext cx="0" cy="511164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6477120"/>
            <a:ext cx="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6308640"/>
            <a:ext cx="761976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1197000"/>
            <a:ext cx="761976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1828800"/>
            <a:ext cx="76201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2819520"/>
            <a:ext cx="76201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5136-C9CC-4924-9935-BA5529561D9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CUOLA DELL’INFANZIA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000" y="112536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LEGGE 28 MARZO 2003, N.53</a:t>
            </a:r>
            <a:endParaRPr b="1" lang="en-US" sz="18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66ff"/>
                </a:solidFill>
                <a:uFillTx/>
                <a:latin typeface="Times New Roman"/>
              </a:rPr>
              <a:t>Possibile</a:t>
            </a:r>
            <a:r>
              <a:rPr b="1" lang="en-US" sz="2000" spc="-1" strike="noStrike">
                <a:solidFill>
                  <a:srgbClr val="0066ff"/>
                </a:solidFill>
                <a:latin typeface="Times New Roman"/>
              </a:rPr>
              <a:t> anticipo dai 2,5 ai 5,5 anni (devono esserci alcune condizioni garantite)</a:t>
            </a: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Non obbligatoria e unitariamente triennale nell’articolazione delle attività educative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7960" y="11430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Legge 30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ai 3 ai 6 ann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Non obbligatoria e unitariamente triennale nell’articolazione delle attività educative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684360" y="1066680"/>
            <a:ext cx="1440" cy="351468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1066680"/>
            <a:ext cx="5040" cy="34419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244000" y="1125360"/>
            <a:ext cx="0" cy="345600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6477120"/>
            <a:ext cx="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1066680"/>
            <a:ext cx="76201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76520"/>
            <a:ext cx="76201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819520"/>
            <a:ext cx="762012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4581360"/>
            <a:ext cx="761976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004B-53F5-4C52-A6D2-7F252A2AE17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99640" y="26028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STRUZIONE PRIMARIA E SECONDARIA DI I° GRADO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Times New Roman"/>
              </a:rPr>
              <a:t>LEGGE 28 MARZO 2003, N.53</a:t>
            </a:r>
            <a:endParaRPr b="1" lang="en-US" sz="18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ai 6 ai 14 ann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struzione primaria di 5 ann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Istruzione secondaria 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i I° grado di 3 ann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Articolazione coordinata e progressiva dei piani di studio dei due ordini di scuola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7960" y="1143000"/>
            <a:ext cx="4267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Legge 30 e decreti successivi 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Dai 6 ai 13 ann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iclo primario unitario di 7 ann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Percorso unitario con progressivo passaggio dagli ambiti alle discipline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36232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4360" y="314172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1219320"/>
            <a:ext cx="0" cy="53337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21932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219320"/>
            <a:ext cx="0" cy="53337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763120" y="1219320"/>
            <a:ext cx="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839080" y="1219320"/>
            <a:ext cx="0" cy="53337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655308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7652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419112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8A2-A85E-4726-91BC-DE58229573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340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ISTRUZIONE PRIMARIA E SECONDARIA DI I° GRADO</a:t>
            </a:r>
            <a:endParaRPr b="0" lang="en-US" sz="3200" spc="-1" strike="noStrike">
              <a:solidFill>
                <a:srgbClr val="ff33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13000"/>
            <a:ext cx="380988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Moduli didattici specifici, a carattere orientativo, in 3</a:t>
            </a:r>
            <a:r>
              <a:rPr b="1" lang="en-US" sz="2400" spc="-1" strike="noStrike" baseline="30000">
                <a:solidFill>
                  <a:srgbClr val="0066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 media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same di stato di licenza media. Consiglio orientativo non vincolante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Generalizzazione dell’esperienza degli Istituti Comprensiv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7960" y="1484280"/>
            <a:ext cx="42670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Negli ultimi due anni curricolo caratterizzato dalla presenza delle discipline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Carattere orientante alla scelta successiva degli ultimi due anni,  all’interno del curricolo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Esame di stato di licenza media. Consiglio orientativo non vincolante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Generalizzazione dell’esperienza degli Istituti Comprensivi</a:t>
            </a:r>
            <a:endParaRPr b="1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3733920"/>
            <a:ext cx="81536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1219320"/>
            <a:ext cx="0" cy="53337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21932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5800" y="1219320"/>
            <a:ext cx="0" cy="53337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763120" y="1219320"/>
            <a:ext cx="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839080" y="1219320"/>
            <a:ext cx="0" cy="533376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55308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2514600"/>
            <a:ext cx="815364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5257800"/>
            <a:ext cx="8153280" cy="0"/>
          </a:xfrm>
          <a:prstGeom prst="line">
            <a:avLst/>
          </a:prstGeom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4B2E-9C24-4D9C-A733-C756F0F814D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9:00:38Z</dcterms:created>
  <dc:creator>Armida Sabbatini</dc:creator>
  <dc:description/>
  <dc:language>en-US</dc:language>
  <cp:lastModifiedBy>.</cp:lastModifiedBy>
  <cp:lastPrinted>2003-09-08T09:10:26Z</cp:lastPrinted>
  <dcterms:modified xsi:type="dcterms:W3CDTF">2004-11-14T11:16:59Z</dcterms:modified>
  <cp:revision>73</cp:revision>
  <dc:subject/>
  <dc:title>LEGGE-DELEGA  “MORATTI” RIFORMA DELLA SCUOLA LEGGE 28 MARZO 2003, N.53</dc:title>
</cp:coreProperties>
</file>