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B6F0-82A8-431B-9FB4-F89C3A07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409D-919A-47CD-85BC-724A0AB4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951-739A-475D-99B9-9F27CE121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B28-5DAC-496A-A113-CA9BB4CDF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2BFE-201F-4C8C-8422-E8B87214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5181-82B5-4BEA-B829-26894291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F3DB8-A4E6-42E7-A273-1579068F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047B-8E4B-47B7-8A2A-CCD4CA22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ACBE-1EC7-444D-91A1-22DDF87E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3CAF9-A91E-4419-93A3-360728EC5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78C3-99AD-4E4B-B0EC-771C9F56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C46F-6B5E-4130-B928-D8692F24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D14F-F141-4C06-B96B-DC289EEC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A297-68E6-4D8D-A992-3BD7DE03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43D82-9695-4C65-A16A-CAF3841D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ADBB-BB54-437A-9F2B-A2F7E564A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C727-043E-45E5-B69F-71A25DAB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025B-DBFB-4FDF-A416-D519DB03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432-0480-4226-9F42-C46A3D17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F9F8-34A4-417F-85DB-EA37CF14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F6F0-4C78-4FC7-815B-35435EF6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7596-2C44-401A-9007-1030BD94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C45-A03C-443E-A3C9-4AF7A1A7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B71D-B566-43CA-B91D-3F6BEFB0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6248160" y="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Giuseppe Colos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AD4D9-C294-404B-B92B-39DA9C507ADA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8783640" y="444600"/>
            <a:ext cx="360360" cy="315252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50000">
                <a:srgbClr val="ffcc00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213372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163520"/>
            <a:ext cx="9144000" cy="569448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ffff99"/>
              </a:gs>
              <a:gs pos="50000">
                <a:srgbClr val="ffffff"/>
              </a:gs>
              <a:gs pos="100000">
                <a:srgbClr val="ffff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291960"/>
            <a:ext cx="9144000" cy="85428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05160"/>
            <a:ext cx="9144000" cy="106992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76440" y="1522440"/>
            <a:ext cx="6667560" cy="533556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43400"/>
            <a:ext cx="9144000" cy="3055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52840"/>
            <a:ext cx="6237360" cy="336564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DF546-0F81-48A9-AAD9-D247131A61D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66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Fourth Outline Level</a:t>
            </a:r>
            <a:endParaRPr b="1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66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66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 SCUOLA DELL’AUTONO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 cura d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Pavia Ottobre 2002 e Ottobre 2003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8120" y="4267080"/>
            <a:ext cx="24667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ianfranco Ghilardotti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876920" y="4724280"/>
            <a:ext cx="246672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rmida Sabbatini</a:t>
            </a:r>
            <a:endParaRPr b="1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NOMIA DIDAT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organizzazione di iniziative di recupero e sostegno;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ttivazione di insegnamenti integrativi facoltativi 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ealizzazione di attività organizzate in collaborazione con altre scuole e con soggetti esterni per l'integrazione della scuola con il territorio;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niziative di orientamento scolastico e professionale;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niziative di continuità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ndividuazione di modalità e criteri di  valutazione degli alunni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ndividuazione di criteri per la valutazione periodica dei risultati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ccordi e convenzioni per il coordinamento di attività di comune interesse di più scuole.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NOMIA ORGANIZZ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Le  istituzioni scolastiche adottano ogni modalità organizzativa  che sia espressione di libertà progettuale e sia coerente con gli obiettivi generali e specifici di ciascun tipo e indirizzo di studio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Le  istituzioni scolastiche stabiliscono gli adattamenti del calendario in relazione alle esigenze derivanti dal P.O.F.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Le  istituzioni scolastiche organizzano in modo flessibil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orario complessivo del curricolo e quello destinato alle singole discipline, anche sulla base di una programmazione pluridisciplinare.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NOMIA di RICERCA, SPERIMENTAZIONE e SVILUPP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e istituzioni scolastiche esercitano tale forma di autonomia curando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182520" indent="-18252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a progettazione formativa e  la ricerca valutativa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182520" indent="-18252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a formazione e l’aggiornamento culturale e         professionale del personale scolastico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182520" indent="-18252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’innovazione metodologica e disciplinare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182520" indent="-18252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a ricerca didattica sulle diverse valenze delle tecnologie dell’informazione e della comunicazione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182520" indent="-18252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a documentazione educativa e la sua diffusione all’interno della scuola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182520" indent="-18252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gli scambi di informazioni, esperienze e materiali didattici. 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ESSIBILIT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La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flessibilità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introdotta dalle norme sull'autonomia consente di rendere più elastici i piani di studio e quindi di svolgere sia attività di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orientamento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(necessarie per scoprire le vocazioni dei singoli alunni), sia azioni di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recupero e sostegno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(indispensabili per rispondere ai bisogni degli allievi che hanno difficoltà a imparare), sia iniziative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aggiuntive di potenziamento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(destinate ad arricchire i percorsi di studio degli alunni con particolari capacità). 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L'autonomia è dunque un insieme di strumenti che, nell'aula di lezione, creano le condizioni per un apprendimento più efficace. 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Il sistema scolastico sceglie di impegnarsi espressamente sul terreno dei </a:t>
            </a:r>
            <a:r>
              <a:rPr b="0" lang="en-US" sz="2000" spc="-1" strike="noStrike" u="sng">
                <a:solidFill>
                  <a:srgbClr val="663300"/>
                </a:solidFill>
                <a:uFillTx/>
                <a:latin typeface="Times New Roman"/>
              </a:rPr>
              <a:t>risultati per sviluppare le potenzialità di ogni alunno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. L'attuazione dell'autonomia passa anche attraverso la realizzazione di un articolato disegno di monitoraggio e valutazione della qualità dell'istruzione. 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ETENZE - ABILITÀ - STANDARD-OBIETTIVI-INDICA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Times New Roman"/>
              </a:rPr>
              <a:t>Standard</a:t>
            </a:r>
            <a:r>
              <a:rPr b="0" i="1" lang="it-IT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 complesso dei tratti che definiscono il profilo culturale individuale e/o collettivo in un momento determinato della vita.</a:t>
            </a:r>
            <a:r>
              <a:rPr b="1" i="1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standard = vd. oltre</a:t>
            </a:r>
            <a:r>
              <a:rPr b="1" lang="it-IT" sz="18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Times New Roman"/>
              </a:rPr>
              <a:t>Competenze</a:t>
            </a:r>
            <a:r>
              <a:rPr b="0" i="1" lang="it-IT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 ciò che, in un contesto dato,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Times New Roman"/>
              </a:rPr>
              <a:t>si sa fare (abilità)</a:t>
            </a: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, sulla base di un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Times New Roman"/>
              </a:rPr>
              <a:t>sapere (conoscenze)</a:t>
            </a: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 per raggiungere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Times New Roman"/>
              </a:rPr>
              <a:t>l’obiettivo atteso e produrre (nuove) conoscenze</a:t>
            </a: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 (le competenze possono, poi, essere di base/di cittadinanza e specifiche di una disciplina e/o trasversali riferite a più discipline)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Times New Roman"/>
              </a:rPr>
              <a:t>Obiettivi</a:t>
            </a:r>
            <a:r>
              <a:rPr b="0" i="1" lang="it-IT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Times New Roman"/>
              </a:rPr>
              <a:t>espressioni del comportamento</a:t>
            </a: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 degli alunni capaci di rilevare attività cognitive, affettive e di relazione, compiute o in atto, cui si connetta un significato ai fini della delineazione di un profilo culturale.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Times New Roman"/>
              </a:rPr>
              <a:t>Livelli</a:t>
            </a:r>
            <a:r>
              <a:rPr b="0" i="1" lang="it-IT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Times New Roman"/>
              </a:rPr>
              <a:t>posizioni in scale descrittive dei fenomeni educativi</a:t>
            </a: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 nelle quali sia possibile stabilire in modo univoco una relazione d’ordine (maggiore, minore);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ff"/>
                </a:solidFill>
                <a:latin typeface="Times New Roman"/>
              </a:rPr>
              <a:t>Indicatori</a:t>
            </a:r>
            <a:r>
              <a:rPr b="0" i="1" lang="it-IT" sz="1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Times New Roman"/>
              </a:rPr>
              <a:t>variabili del sistema</a:t>
            </a: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 di istruzione cui corrisponde un </a:t>
            </a:r>
            <a:r>
              <a:rPr b="0" lang="it-IT" sz="1800" spc="-1" strike="noStrike" u="sng">
                <a:solidFill>
                  <a:srgbClr val="0000ff"/>
                </a:solidFill>
                <a:uFillTx/>
                <a:latin typeface="Times New Roman"/>
              </a:rPr>
              <a:t>criterio di misura</a:t>
            </a:r>
            <a:r>
              <a:rPr b="0" lang="it-IT" sz="1800" spc="-1" strike="noStrike">
                <a:solidFill>
                  <a:srgbClr val="0000ff"/>
                </a:solidFill>
                <a:latin typeface="Times New Roman"/>
              </a:rPr>
              <a:t> (eventualmente tradotto in scala).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STANDARD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DI APPRENDIMENTO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: livello comune (soglia di accettabilità) dell’insieme di competenze atteso anche nelle fasi intermedie, per ogni grado, tipo e indirizzo di istruzion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DI QUALITÀ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: livello comune (soglia di accettabilità) della funzionalità e dell’efficacia del servizio erogato da una Istituzione Scolastica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o Formativo, Individualizz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5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L'</a:t>
            </a:r>
            <a:r>
              <a:rPr b="1" lang="it-IT" sz="1600" spc="-1" strike="noStrike">
                <a:solidFill>
                  <a:srgbClr val="663300"/>
                </a:solidFill>
                <a:latin typeface="Times New Roman"/>
              </a:rPr>
              <a:t>obiettivo</a:t>
            </a: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 della scuola dell'autonomia è il </a:t>
            </a:r>
            <a:r>
              <a:rPr b="1" lang="it-IT" sz="1600" spc="-1" strike="noStrike">
                <a:solidFill>
                  <a:srgbClr val="663300"/>
                </a:solidFill>
                <a:latin typeface="Times New Roman"/>
              </a:rPr>
              <a:t>successo formativo</a:t>
            </a: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 di </a:t>
            </a:r>
            <a:r>
              <a:rPr b="1" lang="it-IT" sz="1600" spc="-1" strike="noStrike">
                <a:solidFill>
                  <a:srgbClr val="663300"/>
                </a:solidFill>
                <a:latin typeface="Times New Roman"/>
              </a:rPr>
              <a:t>tutti gli alunni</a:t>
            </a: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. Con l'</a:t>
            </a:r>
            <a:r>
              <a:rPr b="1" lang="it-IT" sz="1600" spc="-1" strike="noStrike">
                <a:solidFill>
                  <a:srgbClr val="663300"/>
                </a:solidFill>
                <a:latin typeface="Times New Roman"/>
              </a:rPr>
              <a:t>autonomia</a:t>
            </a: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 l'istruzione, la formazione professionale e la formazione connessa con l'apprendistato non sono più canali separati ma nodi di una rete ampia e flessibile. Ciò favorisce la capitalizzazione delle varie esperienze in qualunque nodo esse siano acquisite. </a:t>
            </a:r>
            <a:br>
              <a:rPr sz="1600"/>
            </a:b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Questa rete di esperienze viene chiamata "</a:t>
            </a: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sistema formativo integrato</a:t>
            </a: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" e si fonda, oltre che sulla </a:t>
            </a:r>
            <a:r>
              <a:rPr b="0" lang="it-IT" sz="1600" spc="-1" strike="noStrike" u="sng">
                <a:solidFill>
                  <a:srgbClr val="663300"/>
                </a:solidFill>
                <a:uFillTx/>
                <a:latin typeface="Times New Roman"/>
              </a:rPr>
              <a:t>legge e sui regolamenti che hanno introdotto l'autonomia scolastica, su un "pacchetto" di disposizioni</a:t>
            </a: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: </a:t>
            </a:r>
            <a:endParaRPr b="1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leggi e regolamenti che regolano il </a:t>
            </a:r>
            <a:r>
              <a:rPr b="0" lang="it-IT" sz="1600" spc="-1" strike="noStrike" u="sng">
                <a:solidFill>
                  <a:srgbClr val="663300"/>
                </a:solidFill>
                <a:uFillTx/>
                <a:latin typeface="Times New Roman"/>
              </a:rPr>
              <a:t>nuovo esame di Stato conclusivo</a:t>
            </a:r>
            <a:endParaRPr b="1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leggi e regolamenti che hanno </a:t>
            </a:r>
            <a:r>
              <a:rPr b="0" lang="it-IT" sz="1600" spc="-1" strike="noStrike" u="sng">
                <a:solidFill>
                  <a:srgbClr val="663300"/>
                </a:solidFill>
                <a:uFillTx/>
                <a:latin typeface="Times New Roman"/>
              </a:rPr>
              <a:t>innalzato il nuovo obbligo di istruzione</a:t>
            </a: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 e introdotto </a:t>
            </a:r>
            <a:r>
              <a:rPr b="0" lang="it-IT" sz="1600" spc="-1" strike="noStrike" u="sng">
                <a:solidFill>
                  <a:srgbClr val="663300"/>
                </a:solidFill>
                <a:uFillTx/>
                <a:latin typeface="Times New Roman"/>
              </a:rPr>
              <a:t>l’obbligo formativo fino a 18 anni</a:t>
            </a:r>
            <a:endParaRPr b="1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leggi e regolamenti che hanno </a:t>
            </a:r>
            <a:r>
              <a:rPr b="0" lang="it-IT" sz="1600" spc="-1" strike="noStrike" u="sng">
                <a:solidFill>
                  <a:srgbClr val="663300"/>
                </a:solidFill>
                <a:uFillTx/>
                <a:latin typeface="Times New Roman"/>
              </a:rPr>
              <a:t>disciplinato la formazione professionale</a:t>
            </a:r>
            <a:endParaRPr b="1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I giovani possono dunque intraprendere percorsi di studio e di lavoro sempre più vicini alle loro vocazioni e potenzialità. Tutto ciò rende più facile il raggiungimento del successo formativo. </a:t>
            </a:r>
            <a:endParaRPr b="1" lang="en-US" sz="16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Lo strumento operativo capace di dar conto degli esiti di tale sistema sarà il "Libretto formativo del cittadino" (previsto dall'articolo 17 della L.196) che conterrà il </a:t>
            </a:r>
            <a:r>
              <a:rPr b="1" lang="it-IT" sz="1600" spc="-1" strike="noStrike">
                <a:solidFill>
                  <a:srgbClr val="663300"/>
                </a:solidFill>
                <a:latin typeface="Times New Roman"/>
              </a:rPr>
              <a:t>portfolio delle competenze</a:t>
            </a: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 acquisite da ciascuno nell'arco della sua intera esistenza. </a:t>
            </a:r>
            <a:br>
              <a:rPr sz="1600"/>
            </a:br>
            <a:r>
              <a:rPr b="0" lang="it-IT" sz="1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LIB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aratteristiche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ndividuazione del problema da affrontar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efinizione obiettivi da perseguir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ndividuazione strumenti da adottar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efinizione condizioni organizzative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efinizione responsabilità di attuazion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ndividuazione metodologie prescelte (libertà d'insegnamento)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ndividuazione modalità di verifica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efinizione eventuale preventivo di spesa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ndividuazione modalità  di comunicazione alle famigli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DGET DI SCUO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3886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ENTRAT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Assegnazione ordinaria 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e Assegnazione perequativa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Sperimentazione del POF e formazione per l'autonomia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Progetti speciali (es. Lingue 2000-Musica-Educazione motoria)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Residui anni precedenti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Altri soggetti (Enti locali, provinciali, regionali, internazionali, ecc.) 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Altri soggetti</a:t>
            </a: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(donazioni, erogazioni liberali, sponsorizzazioni, ecc.)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66720" y="914040"/>
            <a:ext cx="4876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SPES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Spese per il personale e gli esperti esterni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Spese per studenti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Spese di funzionamento e gestione, acquisto di materiali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Convenzioni con enti esterni, associazioni, enti locali,  ecc.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Spese di progettazione, valutazione e documentazione e per attività aggiuntive d’insegnamento (es. con Fondo Istituzione scolastica)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Spese per attività di formazione attinenti alla sperimentazione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Spese per la documentazione e la comunicazione 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ANO DELL'OFFERTA FORMATI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’ il documento fondamentale costitutivo dell’identità culturale e progettuale dell’Istituzione Scolastica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splicita la progettazione curricolare, extracurricolare, educativa e organizzativa adottata in autonomia dalle scuol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è coerente con gli obiettivi generali ed educativi dei diversi tipi e indirizzi di stud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iflette le esigenze del contesto culturale, sociale ed economico della realtà locale, tenendo conto della programmazione territoriale dell’offerta formativa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mprende e riconosce le diverse opzioni metodologiche, anche di gruppi minoritari, e valorizza le corrispondenti professionalità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OLE CHI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isorse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Per i bisogni e le potenzialità degli student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Per la creatività professionale degli insegnant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Per una nuova gestione delle informazioni e della comunicazione a scuola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Per il successo formativo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DURA PER IL P.O.F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IRIGENTE SCOLASTICO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ttiva i rapporti necessari con gli enti locali e le realtà operanti sul territorio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NSIGLIO DI CIRCOLO O D’ISTITUTO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efinisce indirizzi e scelte generali di gestione e di amministrazione, tenuto conto delle proposte e dei pareri di organismi e associazioni di genitori e student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LLEGIO DEI DOCENTI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labora il Piano dell’Offerta Formativa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NSIGLIO DI CIRCOLO O D’ISTITUTO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dotta il Piano dell’Offerta Formativa, che è reso pubblico e consegnato in copia agli alunni e alle famiglie all’atto dell’iscrizion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ICATORI SUGGERI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3300"/>
                </a:solidFill>
                <a:latin typeface="Times New Roman"/>
              </a:rPr>
              <a:t>Attività progettuale: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3300"/>
                </a:solidFill>
                <a:latin typeface="Times New Roman"/>
              </a:rPr>
              <a:t>flessibilità 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3300"/>
                </a:solidFill>
                <a:latin typeface="Times New Roman"/>
              </a:rPr>
              <a:t>che riguarda le scelte innovative compiute da ciascuna scuola rispetto alle attività didattiche, organizzative, curricolari ed extracurricolari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3300"/>
                </a:solidFill>
                <a:latin typeface="Times New Roman"/>
              </a:rPr>
              <a:t>integrazione 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3300"/>
                </a:solidFill>
                <a:latin typeface="Times New Roman"/>
              </a:rPr>
              <a:t>che riguarda la coerenza progettuale delle diverse iniziative, nonché gli aspetti di relazione costruttiva e funzionale della scuola con le comunità locali 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3300"/>
                </a:solidFill>
                <a:latin typeface="Times New Roman"/>
              </a:rPr>
              <a:t>responsabilità 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3300"/>
                </a:solidFill>
                <a:latin typeface="Times New Roman"/>
              </a:rPr>
              <a:t>che investe tutti i processi decisionali attivati da ciascuna scuola, nell'ambito della propria discrezionalità e attraverso il coinvolgimento di tutte le componenti. Tale responsabilità si esplica attraverso una analisi di fattibilità e l'individuazione degli strumenti per raggiungere gli obiettivi formativi di cui rendere conto attraverso procedure di autovalutazione e verifica interna, indicandone tempi, criteri e modalità utili anche ai fini delle successive azioni di monitoraggio previste dall'Amministrazione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ORDINAMENTO DELLE COMPETEN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3300"/>
                </a:solidFill>
                <a:latin typeface="Times New Roman"/>
              </a:rPr>
              <a:t>Organi collegiali della scuola</a:t>
            </a: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: garantiscono l’efficacia dell’autonomia delle Istituzioni Scolastiche nel quadro delle norme che ne definiscono competenze e composizion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3300"/>
                </a:solidFill>
                <a:latin typeface="Times New Roman"/>
              </a:rPr>
              <a:t>Dirigente scolastico</a:t>
            </a: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: esercita le funzioni del Dlvo 6/3/1998, n. 59 nel rispetto delle competenze degli organi collegial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3300"/>
                </a:solidFill>
                <a:latin typeface="Times New Roman"/>
              </a:rPr>
              <a:t>Docenti</a:t>
            </a: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: compito e responsabilità della progettazione e attuazione del processo di insegnamento e di apprendimento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3300"/>
                </a:solidFill>
                <a:latin typeface="Times New Roman"/>
              </a:rPr>
              <a:t>Direttore dei Servizi Generali e Amministrativi</a:t>
            </a: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: direzione dei servizi di segreteria nel quadro dell’unità di conduzione del dirigente scolastico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663300"/>
                </a:solidFill>
                <a:latin typeface="Times New Roman"/>
              </a:rPr>
              <a:t>Personale, genitori e studenti</a:t>
            </a: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: partecipano al processo di attuazione e sviluppo dell’autonomia assumendo le rispettive responsabilità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ZIONI STRUMENTALI AL P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Fino al 2002.03 = Funzioni Obiettivo (compreso vicario)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da 2003.04 = Funzioni Strumentali al POF in ogni scuola dimensionata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(La funzione di collaboratore vicario del capo di istituto cede il posto al ruolo di docente collaboratore con specifiche deleghe)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per realizzare le finalità della scuola dell'autonomia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per valorizzare la professionalità e l'impegno aggiuntivo degli insegnanti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La retribuzione segue i criteri stabiliti nella contrattazione d’istituto. Il badget assegnato alle scuole prevede lo stesso importo economico delle funzioni obiettivo </a:t>
            </a:r>
            <a:r>
              <a:rPr b="1" lang="it-IT" sz="2400" spc="-1" strike="noStrike" u="sng">
                <a:solidFill>
                  <a:srgbClr val="663300"/>
                </a:solidFill>
                <a:uFillTx/>
                <a:latin typeface="Times New Roman"/>
              </a:rPr>
              <a:t>spettanti</a:t>
            </a: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 nell’anno precedent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 per ex FUNZIONI OBIETTIVO trasferito all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zioni Strumentali al P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055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3300"/>
                </a:solidFill>
                <a:latin typeface="Times New Roman"/>
              </a:rPr>
              <a:t>Il collegio dei docenti, nel mese di settembre prima dell'inizio delle lezioni, identifica nell'ambito del P.O.F. le funzioni-strumentali riferite alle aree previste dall’art.28 del C.C.N.L. e/o meglio qualificanti ogni attività del POF definendo, altresì, contestualmente, le competenze e i requisiti professionali necessari per l'accesso a ciascuna delle funzioni medesime. 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3300"/>
                </a:solidFill>
                <a:latin typeface="Times New Roman"/>
              </a:rPr>
              <a:t>Il collegio dei docenti, ferma restando la propria autonomia organizzativa, può avvalersi di una commissione nominata al suo interno. 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3300"/>
                </a:solidFill>
                <a:latin typeface="Times New Roman"/>
              </a:rPr>
              <a:t>Successivamente i docenti che ne hanno interesse presentano la domanda.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663300"/>
                </a:solidFill>
                <a:latin typeface="Times New Roman"/>
              </a:rPr>
              <a:t>Il collegio dei docenti, entro 15 giorni dall’inizio delle lezioni, con motivata deliberazione designa i docenti cui assegnare le funzioni strumentali al Pof tra coloro che ne abbiano fatto domanda ed abbiano dichiarato la loro disponibilità a frequentare le eventuali specifiche iniziative di formazione in servizio di cui all’art.17 del contratto. La dichiarata disponibilità a permanere nella stessa scuola per l’intera durata dell’incarico costituisce titolo preferenziale.</a:t>
            </a: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GURE PER L'AUTONO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rea 1 - Gestione del piano dell'offerta formativa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) coordinamento delle attività del Piano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b) coordinamento della progettazione curricolar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) valutazione delle attività del Piano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GURE PER L'AUTONO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Area 2 - Sostegno al lavoro dei docenti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a) analisi dei bisogni formativi e gestione del Piano di formazione e aggiornamento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b) accoglienza dei nuovi docent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c) produzione dei materiali didattic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d) coordinamento dell’utilizzo delle nuove tecnologie e della biblioteca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e) cura della documentazione educativa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f) coordinamento nella scuola dell'attività di tutoraggio connessa alla formazione universitaria dei docent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GURE PER L'AUTONO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Area 3 - Interventi e servizi per studenti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a) coordinamento delle attività extracurricolar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b) coordinamento e gestione delle attività di continuità, di orientamento e tutoraggio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c) coordinamento delle attività di compensazione integrazione e recupero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GURE PER L'AUTONOM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Area 4 - Realizzazione di progetti formativi d'intesa con enti ed istituzioni esterni alle scuole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ordinamento dei rapporti con enti pubblici o Aziende anche per la realizzazione di stage formativ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ordinamento delle attività di scuola-lavoro e di stage formativ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ordinamento delle attività con la formazione professional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PROGETT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8001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Progettare non è più un’opzione: è centrale nel processo di autonomia. La scuola deve leggere i bisogni formativi e organizzare risposte qualificate utilizzando i margini di flessibilità e le risorse consentiti dall’autonomia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Ogni singolo progetto d’istituto deve essere visto come una tessera del mosaico del POF e deve integrarsi in modo armonico con tutta la progettazione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Le abilità dei progettisti: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individuare le fasi di costruzione, realizzazione e valutazione di un progetto d’istituto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acquisire competenze in merito alla rilevazione dei bisogni di formazione del territorio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conoscere le banche dati utilizzabili per l’analisi della realtà sociale, culturale ed economica del territorio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imes New Roman"/>
              </a:rPr>
              <a:t>individuare indicatori di risultato e di processo di un servizio pubblico culturale-educativo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OLE CHI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Aula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Conta la persona: si insegna con attenzione ai percorsi individual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Conta il risultato: si studia per usare al meglio le conoscenze.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Importanti i processi di metacognizione e motivazionali.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PASSAGGI LOGICI DELLA PROGETT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Dal bisogno ad una ipotesi di lavoro, da un’ipotesi al piano operativo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analisi della domanda di formazione in rapporto al territorio e alle sue dinamiche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le risorse disponibili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l’individuazione degli obiettivi e delle priorità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la gestione del tempo scuola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l’esecuzione del progetto, monitoraggio, aggiustamenti in itinere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la valutazione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assumendo: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 Scuola dell’Autonomi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3300"/>
                </a:solidFill>
                <a:latin typeface="Times New Roman"/>
              </a:rPr>
              <a:t>La scuola dell'autonomia dà ai giovani nuove possibilità per far corrispondere il </a:t>
            </a:r>
            <a:r>
              <a:rPr b="0" lang="it-IT" sz="1800" spc="-1" strike="noStrike" u="sng">
                <a:solidFill>
                  <a:srgbClr val="663300"/>
                </a:solidFill>
                <a:uFillTx/>
                <a:latin typeface="Times New Roman"/>
              </a:rPr>
              <a:t>percorso di studio al proprio progetto di vita</a:t>
            </a:r>
            <a:r>
              <a:rPr b="0" lang="it-IT" sz="1800" spc="-1" strike="noStrike">
                <a:solidFill>
                  <a:srgbClr val="663300"/>
                </a:solidFill>
                <a:latin typeface="Times New Roman"/>
              </a:rPr>
              <a:t>. Per ciascuno di loro: 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riconosce e valorizza le diversità</a:t>
            </a:r>
            <a:r>
              <a:rPr b="0" lang="it-IT" sz="18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promuove le potenzialità 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66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adegua l'insegnamento ai ritmi e agli stili di apprendimento</a:t>
            </a:r>
            <a:r>
              <a:rPr b="0" lang="it-IT" sz="1800" spc="-1" strike="noStrike">
                <a:solidFill>
                  <a:srgbClr val="663300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3300"/>
                </a:solidFill>
                <a:latin typeface="Times New Roman"/>
              </a:rPr>
              <a:t>In questo quadro, </a:t>
            </a:r>
            <a:r>
              <a:rPr b="0" lang="it-IT" sz="1800" spc="-1" strike="noStrike" u="sng">
                <a:solidFill>
                  <a:srgbClr val="663300"/>
                </a:solidFill>
                <a:uFillTx/>
                <a:latin typeface="Times New Roman"/>
              </a:rPr>
              <a:t>l'innalzamento dell'obbligo di istruzione a quindici anni e l'introduzione dell'obbligo formativo a diciotto offrono</a:t>
            </a:r>
            <a:r>
              <a:rPr b="0" lang="it-IT" sz="1800" spc="-1" strike="noStrike">
                <a:solidFill>
                  <a:srgbClr val="663300"/>
                </a:solidFill>
                <a:latin typeface="Times New Roman"/>
              </a:rPr>
              <a:t> ai giovani strumenti concreti per progettare con successo il proprio futuro. Azioni di </a:t>
            </a:r>
            <a:r>
              <a:rPr b="0" lang="it-IT" sz="1800" spc="-1" strike="noStrike" u="sng">
                <a:solidFill>
                  <a:srgbClr val="663300"/>
                </a:solidFill>
                <a:uFillTx/>
                <a:latin typeface="Times New Roman"/>
              </a:rPr>
              <a:t>orientamento e ri -orientamento</a:t>
            </a:r>
            <a:r>
              <a:rPr b="0" lang="it-IT" sz="1800" spc="-1" strike="noStrike">
                <a:solidFill>
                  <a:srgbClr val="663300"/>
                </a:solidFill>
                <a:latin typeface="Times New Roman"/>
              </a:rPr>
              <a:t> facilitano, se necessario, il passaggio degli studenti sia dall'uno all'altro degli indirizzi della scuola secondaria superiore, sia tra la frequenza di uno di questi indirizzi e quella di corsi di formazione professionali o di attività formative connesse con l'apprendistato. La scuola viene incontro alle esigenze che i giovani hanno di inserirsi in un contesto culturale, sociale ed economico complesso. </a:t>
            </a:r>
            <a:br>
              <a:rPr sz="1800"/>
            </a:br>
            <a:r>
              <a:rPr b="1" lang="it-IT" sz="1800" spc="-1" strike="noStrike">
                <a:solidFill>
                  <a:srgbClr val="663300"/>
                </a:solidFill>
                <a:latin typeface="Times New Roman"/>
              </a:rPr>
              <a:t>È una scuola aperta quella dell'autonomia</a:t>
            </a:r>
            <a:r>
              <a:rPr b="0" lang="it-IT" sz="1800" spc="-1" strike="noStrike">
                <a:solidFill>
                  <a:srgbClr val="663300"/>
                </a:solidFill>
                <a:latin typeface="Times New Roman"/>
              </a:rPr>
              <a:t>: alle diversità e alle esigenze di chi studia, ma anche alla complessità dei compiti e dei ruoli che la realtà presente richiede.</a:t>
            </a:r>
            <a:endParaRPr b="1" lang="en-US" sz="18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egnanti e Autonomi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L'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insegnamento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oltre ad essere il risultato di un lavoro di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programmazione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, diventa una "fase" di una complessa attività di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 progettazione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 che tiene conto di tutte le risorse disponibili e le finalizza al raggiungimento del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successo formativo</a:t>
            </a: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. Il lavoro di progettazione è efficace se gli obiettivi fissati vengono sistematicamente collegati all'uso delle risorse umane, strumentali e finanziarie. 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Il Regolamento per la gestione amministrativo contabile lega strettamente il "programma annuale" dell'attività finanziaria degli istituti con la formulazione del POF . Di conseguenza il bilancio dell'istituzione scolastica - formulato per capitoli comprendenti le varie spese dei singoli progetti, tutti coerenti con l'identità della scuola e finalizzati al successo formativo - cessa di essere un atto amministrativo e diviene il piano strategico della scuola. </a:t>
            </a:r>
            <a:br>
              <a:rPr sz="2000"/>
            </a:b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L'attività di progettazione prende forma nel POF che documenta un attento lavoro collegiale, grazie al quale la didattica si modella sui bisogni di apprendimento degli alunni per garantire a ognuno un apprendimento di qualità.</a:t>
            </a:r>
            <a:endParaRPr b="1" lang="en-US" sz="20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OLE CHI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apporti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Nella scuola: per realizzare progetti nell’ambito degli obiettivi nazionali della scuola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Della scuola: per dialogare con altre scuole, con le istituzioni, il territorio, la società, la cultura e il mondo del lavoro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RGANIGRAM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videnzia le posizioni dei soggetti individuali e collegiali nel quadro della struttura organizzativa, in rapporto ai livelli di responsabilità ed agli ambiti operativi ed i rapporti di comunicazione formale.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nsente sia ai soggetti interni, sia ai soggetti esterni di avere una visione generale della struttura e di comprenderne la logica organizzativa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ZIONIGRAM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appresenta la struttura organizzativa in base a criteri di riferimento operativo-funzionali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videnzia in particolare l’intreccio delle relazioni e dei rapporti di tipo funzionale tra diverse unità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e aggregazioni dettate da realtà operative comuni o interagent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i gruppi di lavoro costituiti per progetti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NALIT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’autonomia è garanzia di libertà di insegnamento e di pluralismo culturale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L’autonomia si sostanzia nella progettazione e realizzazione di interventi di educazione, formazione e istruzione mirati allo </a:t>
            </a:r>
            <a:r>
              <a:rPr b="1" i="1" lang="en-US" sz="2400" spc="-1" strike="noStrike" u="sng">
                <a:solidFill>
                  <a:srgbClr val="663300"/>
                </a:solidFill>
                <a:uFillTx/>
                <a:latin typeface="Times New Roman"/>
              </a:rPr>
              <a:t>sviluppo della persona umana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, adeguati ai diversi contesti, alla </a:t>
            </a:r>
            <a:r>
              <a:rPr b="1" i="1" lang="en-US" sz="2400" spc="-1" strike="noStrike" u="sng">
                <a:solidFill>
                  <a:srgbClr val="663300"/>
                </a:solidFill>
                <a:uFillTx/>
                <a:latin typeface="Times New Roman"/>
              </a:rPr>
              <a:t>domanda delle famiglie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 e alle </a:t>
            </a:r>
            <a:r>
              <a:rPr b="1" i="1" lang="en-US" sz="2400" spc="-1" strike="noStrike" u="sng">
                <a:solidFill>
                  <a:srgbClr val="663300"/>
                </a:solidFill>
                <a:uFillTx/>
                <a:latin typeface="Times New Roman"/>
              </a:rPr>
              <a:t>caratteristiche dei soggetti coinvolti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, al fine di garantire loro il </a:t>
            </a:r>
            <a:r>
              <a:rPr b="1" i="1" lang="en-US" sz="2400" spc="-1" strike="noStrike" u="sng">
                <a:solidFill>
                  <a:srgbClr val="663300"/>
                </a:solidFill>
                <a:uFillTx/>
                <a:latin typeface="Times New Roman"/>
              </a:rPr>
              <a:t>successo formativo </a:t>
            </a: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erentemente con l’esigenza di migliorare l’efficacia del  processo di insegnamento e di apprendimento.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MBI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Flessibilità didattica e organizzativa nell'ambito di un organico piano dell’offerta formativa che espliciti la programmazione: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urricolar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xtracurricolar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educativa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66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organizzativa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Riorganizzazione dei percorsi didattici per obiettivi formativi e competenze (nell’ambito dei programmi attuali)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Compensazioni tra discipline e attività (decremento entro il 15% del monte ore annuale)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Times New Roman"/>
              </a:rPr>
              <a:t>Monte ore annuale calcolato su 33 settimane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50000">
              <a:srgbClr val="ffffff"/>
            </a:gs>
            <a:gs pos="100000">
              <a:srgbClr val="ffff99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NOMIA DIDAT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Articolazione modulare del monte ore annuale di ciascuna disciplina e attività;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definizione di unità di insegnamento non coincidenti con l’unità oraria della lezione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attivazione di percorsi didattici individualizzati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articolazione modulare di gruppi di alunni provenienti dalla stessa o da diverse classi o da diversi anni di corso; 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3300"/>
                </a:solidFill>
                <a:latin typeface="Times New Roman"/>
              </a:rPr>
              <a:t>aggregazione delle discipline in aree e ambiti disciplinari;</a:t>
            </a: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66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5T09:00:38Z</dcterms:created>
  <dc:creator>Armida Sabbatini</dc:creator>
  <dc:description/>
  <dc:language>en-US</dc:language>
  <cp:lastModifiedBy>.</cp:lastModifiedBy>
  <dcterms:modified xsi:type="dcterms:W3CDTF">2004-11-14T11:10:29Z</dcterms:modified>
  <cp:revision>99</cp:revision>
  <dc:subject/>
  <dc:title>Scuola Autonomia Silsis 2003</dc:title>
</cp:coreProperties>
</file>