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3.pct" ContentType="image/x-pict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2CE1-207F-43C4-920B-8B604A9131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saac Asimov, IL LIBRO DI FISICA, Copyright1986 Arnoldo Mondadori Editore S.p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itolo originale: “Asimov’s New Guide to Science”, Copyright 1984 by Basic Book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lor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è una figura della </a:t>
            </a:r>
            <a:r>
              <a:rPr b="0" lang="it-IT" sz="1200" spc="-1" strike="noStrike">
                <a:solidFill>
                  <a:srgbClr val="5a3696"/>
                </a:solidFill>
                <a:latin typeface="Arial"/>
              </a:rPr>
              <a:t>mitologia roman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era la dea che faceva fiorire alberi e pi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o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è una figura della </a:t>
            </a:r>
            <a:r>
              <a:rPr b="0" lang="it-IT" sz="1200" spc="-1" strike="noStrike">
                <a:solidFill>
                  <a:srgbClr val="5a3696"/>
                </a:solidFill>
                <a:latin typeface="Arial"/>
              </a:rPr>
              <a:t>mitologia roman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era il dio del cielo dell'Italia e fu personalizzato con l'arrivo degli </a:t>
            </a:r>
            <a:r>
              <a:rPr b="0" lang="it-IT" sz="1200" spc="-1" strike="noStrike">
                <a:solidFill>
                  <a:srgbClr val="002bb8"/>
                </a:solidFill>
                <a:latin typeface="Arial"/>
              </a:rPr>
              <a:t>etrusch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it-IT" sz="1200" spc="-1" strike="noStrike">
                <a:solidFill>
                  <a:srgbClr val="002bb8"/>
                </a:solidFill>
                <a:latin typeface="Arial"/>
              </a:rPr>
              <a:t>Rom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era il protettore in tempo di guerra ed il garante del benessere durante la pace. Anche Giove, come gran parte delle divinità romane, non possiede una mitologia propria e venne assimilato allo </a:t>
            </a:r>
            <a:r>
              <a:rPr b="0" lang="it-IT" sz="1200" spc="-1" strike="noStrike">
                <a:solidFill>
                  <a:srgbClr val="002bb8"/>
                </a:solidFill>
                <a:latin typeface="Arial"/>
              </a:rPr>
              <a:t>Zeu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lla </a:t>
            </a:r>
            <a:r>
              <a:rPr b="0" lang="it-IT" sz="1200" spc="-1" strike="noStrike">
                <a:solidFill>
                  <a:srgbClr val="002bb8"/>
                </a:solidFill>
                <a:latin typeface="Arial"/>
              </a:rPr>
              <a:t>mitologia gre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c0c0"/>
                </a:solidFill>
                <a:latin typeface="Arial"/>
              </a:rPr>
              <a:t>Egli era venerato come dio del tuono e del fulm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Nikolaus Koppernigk (1473 - 1534),  latinizzato in Nicola Copernico, di origini polacche spetta il grande merito di aver rimosso una, e forse la più importante, delle ipotesi astronomiche tradizionali: la centralità della Terra nel sistema dell' universo. Egli, avanza la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esi eliocentrica.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19320" y="152280"/>
            <a:ext cx="7086600" cy="4411800"/>
            <a:chOff x="1219320" y="152280"/>
            <a:chExt cx="7086600" cy="4411800"/>
          </a:xfrm>
        </p:grpSpPr>
        <p:sp>
          <p:nvSpPr>
            <p:cNvPr id="53" name=""/>
            <p:cNvSpPr/>
            <p:nvPr/>
          </p:nvSpPr>
          <p:spPr>
            <a:xfrm>
              <a:off x="1219320" y="2438280"/>
              <a:ext cx="708660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ffffff"/>
                  </a:solidFill>
                  <a:latin typeface="Arial"/>
                </a:rPr>
                <a:t>METODO SCIENTIFIC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3600" spc="-1" strike="noStrike">
                  <a:solidFill>
                    <a:srgbClr val="ffffff"/>
                  </a:solidFill>
                  <a:latin typeface="Arial"/>
                </a:rPr>
                <a:t>DIDATTICA DELLE SCIEN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480" y="152280"/>
              <a:ext cx="381024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CORSO SIL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Prof. Claudio Del Don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33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197840" y="114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tro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846520"/>
            <a:ext cx="62485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…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rogresso rapido della scienz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ntinui successi mietuti dal metodo scientifico q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Times New Roman"/>
              </a:rPr>
              <a:t>     </a:t>
            </a:r>
            <a:r>
              <a:rPr b="0" lang="it-IT" sz="1800" spc="-1" strike="noStrike">
                <a:solidFill>
                  <a:srgbClr val="ffff4d"/>
                </a:solidFill>
                <a:latin typeface="Times New Roman"/>
              </a:rPr>
              <a:t>strumento per penetrare le complessità dell’unive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32936"/>
                </a:solidFill>
                <a:latin typeface="Times New Roman"/>
              </a:rPr>
              <a:t>                          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saac Asimov, New York 1984</a:t>
            </a:r>
            <a:r>
              <a:rPr b="0" lang="it-IT" sz="1800" spc="-1" strike="noStrike">
                <a:solidFill>
                  <a:srgbClr val="e3293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39760" y="7621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4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672160" y="114300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e si sviluppa la scie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1968480"/>
            <a:ext cx="149220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54760" y="3429000"/>
            <a:ext cx="189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uriosità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esiderio di sa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10360" y="5877000"/>
            <a:ext cx="240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sogno di conoscere il propr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289560" y="1968480"/>
            <a:ext cx="148284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62520" y="396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4d"/>
                </a:solidFill>
                <a:latin typeface="Arial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13600" y="3467160"/>
            <a:ext cx="18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dizione per la sopravviv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25200">
            <a:off x="6930720" y="4073400"/>
            <a:ext cx="190440" cy="324000"/>
          </a:xfrm>
          <a:prstGeom prst="upArrow">
            <a:avLst>
              <a:gd name="adj1" fmla="val 50000"/>
              <a:gd name="adj2" fmla="val 425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260880"/>
            <a:ext cx="762120" cy="7491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391720" y="3237120"/>
            <a:ext cx="658440" cy="8409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1560" y="6212880"/>
            <a:ext cx="2319480" cy="1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0760" y="4200480"/>
            <a:ext cx="0" cy="1557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0520" y="599292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292800" y="4505400"/>
            <a:ext cx="147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63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967040"/>
            <a:ext cx="1708200" cy="617400"/>
          </a:xfrm>
          <a:prstGeom prst="rect">
            <a:avLst/>
          </a:prstGeom>
          <a:noFill/>
          <a:ln w="1260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sser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73160" y="3241800"/>
            <a:ext cx="1809720" cy="865080"/>
            <a:chOff x="1973160" y="3241800"/>
            <a:chExt cx="1809720" cy="865080"/>
          </a:xfrm>
        </p:grpSpPr>
        <p:sp>
          <p:nvSpPr>
            <p:cNvPr id="169" name=""/>
            <p:cNvSpPr/>
            <p:nvPr/>
          </p:nvSpPr>
          <p:spPr>
            <a:xfrm>
              <a:off x="1973160" y="3241800"/>
              <a:ext cx="1809720" cy="865080"/>
            </a:xfrm>
            <a:custGeom>
              <a:avLst/>
              <a:gdLst>
                <a:gd name="textAreaLeft" fmla="*/ 397800 w 1809720"/>
                <a:gd name="textAreaRight" fmla="*/ 1411920 w 1809720"/>
                <a:gd name="textAreaTop" fmla="*/ 190080 h 865080"/>
                <a:gd name="textAreaBottom" fmla="*/ 67500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9400" y="3349800"/>
              <a:ext cx="120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pensiero cre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63840" y="5040360"/>
            <a:ext cx="1630440" cy="1035000"/>
            <a:chOff x="3363840" y="5040360"/>
            <a:chExt cx="1630440" cy="1035000"/>
          </a:xfrm>
        </p:grpSpPr>
        <p:sp>
          <p:nvSpPr>
            <p:cNvPr id="172" name=""/>
            <p:cNvSpPr/>
            <p:nvPr/>
          </p:nvSpPr>
          <p:spPr>
            <a:xfrm>
              <a:off x="3363840" y="5040360"/>
              <a:ext cx="1630440" cy="103500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5000" y="5362560"/>
              <a:ext cx="11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analo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56400" y="4179960"/>
            <a:ext cx="1326960" cy="1000080"/>
            <a:chOff x="5756400" y="4179960"/>
            <a:chExt cx="1326960" cy="1000080"/>
          </a:xfrm>
        </p:grpSpPr>
        <p:sp>
          <p:nvSpPr>
            <p:cNvPr id="175" name=""/>
            <p:cNvSpPr/>
            <p:nvPr/>
          </p:nvSpPr>
          <p:spPr>
            <a:xfrm>
              <a:off x="5756400" y="4179960"/>
              <a:ext cx="1326960" cy="10000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83280" y="4673520"/>
              <a:ext cx="9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leg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51640" y="2898720"/>
            <a:ext cx="1585800" cy="820800"/>
            <a:chOff x="6551640" y="2898720"/>
            <a:chExt cx="1585800" cy="820800"/>
          </a:xfrm>
        </p:grpSpPr>
        <p:sp>
          <p:nvSpPr>
            <p:cNvPr id="178" name=""/>
            <p:cNvSpPr/>
            <p:nvPr/>
          </p:nvSpPr>
          <p:spPr>
            <a:xfrm>
              <a:off x="6551640" y="2898720"/>
              <a:ext cx="1585800" cy="820800"/>
            </a:xfrm>
            <a:prstGeom prst="ellipse">
              <a:avLst/>
            </a:prstGeom>
            <a:noFill/>
            <a:ln w="12600">
              <a:solidFill>
                <a:srgbClr val="ffff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53400" y="31147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teo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3768840" y="2602080"/>
            <a:ext cx="41040" cy="610920"/>
          </a:xfrm>
          <a:prstGeom prst="line">
            <a:avLst/>
          </a:prstGeom>
          <a:ln w="1260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38640" y="4115160"/>
            <a:ext cx="331560" cy="916920"/>
          </a:xfrm>
          <a:prstGeom prst="line">
            <a:avLst/>
          </a:prstGeom>
          <a:ln w="1260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76640" y="5194080"/>
            <a:ext cx="768600" cy="153720"/>
          </a:xfrm>
          <a:prstGeom prst="line">
            <a:avLst/>
          </a:prstGeom>
          <a:ln w="1260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423120" y="3704760"/>
            <a:ext cx="544320" cy="460440"/>
          </a:xfrm>
          <a:prstGeom prst="line">
            <a:avLst/>
          </a:prstGeom>
          <a:ln w="1260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59360" y="114300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cesso della scop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8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861160" y="1143000"/>
            <a:ext cx="30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cesso della scop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35600" y="3827520"/>
            <a:ext cx="1549440" cy="1576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82840" y="3827520"/>
            <a:ext cx="1568160" cy="1554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835600" y="1784520"/>
            <a:ext cx="1549440" cy="1576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82840" y="1784520"/>
            <a:ext cx="1576440" cy="156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5600" y="22827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l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86360" y="440208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0000" y="1781280"/>
            <a:ext cx="6075360" cy="3622680"/>
            <a:chOff x="1440000" y="1781280"/>
            <a:chExt cx="6075360" cy="3622680"/>
          </a:xfrm>
        </p:grpSpPr>
        <p:sp>
          <p:nvSpPr>
            <p:cNvPr id="200" name=""/>
            <p:cNvSpPr/>
            <p:nvPr/>
          </p:nvSpPr>
          <p:spPr>
            <a:xfrm>
              <a:off x="1482840" y="1781280"/>
              <a:ext cx="5902200" cy="36226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000" y="2930400"/>
              <a:ext cx="607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mettere insieme” per analo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rendere coerente con quello che si 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0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5120" y="1143000"/>
            <a:ext cx="24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oscenza p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76440" y="2190600"/>
            <a:ext cx="2151000" cy="3299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92600" y="3079800"/>
            <a:ext cx="2349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oscenza p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ività prodotta solo dall’attività 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1360" y="4319640"/>
            <a:ext cx="254160" cy="176040"/>
          </a:xfrm>
          <a:custGeom>
            <a:avLst/>
            <a:gdLst>
              <a:gd name="textAreaLeft" fmla="*/ 39600 w 254160"/>
              <a:gd name="textAreaRight" fmla="*/ 222480 w 254160"/>
              <a:gd name="textAreaTop" fmla="*/ 43920 h 176040"/>
              <a:gd name="textAreaBottom" fmla="*/ 132120 h 17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92600" y="4214880"/>
            <a:ext cx="23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 se ste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1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32360" y="2230560"/>
            <a:ext cx="20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ddisf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33600" y="2287440"/>
            <a:ext cx="3187800" cy="313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585120" y="11430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oscenza p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2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01920" y="2419200"/>
            <a:ext cx="6972120" cy="2117880"/>
            <a:chOff x="1501920" y="2419200"/>
            <a:chExt cx="6972120" cy="211788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501920" y="2419200"/>
              <a:ext cx="212400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361200" y="2419200"/>
              <a:ext cx="2112840" cy="211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3989520" y="2752560"/>
            <a:ext cx="211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471920" y="2909880"/>
            <a:ext cx="874800" cy="707040"/>
            <a:chOff x="4471920" y="2909880"/>
            <a:chExt cx="874800" cy="707040"/>
          </a:xfrm>
        </p:grpSpPr>
        <p:sp>
          <p:nvSpPr>
            <p:cNvPr id="236" name=""/>
            <p:cNvSpPr/>
            <p:nvPr/>
          </p:nvSpPr>
          <p:spPr>
            <a:xfrm>
              <a:off x="4571640" y="3218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sf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71920" y="2909880"/>
              <a:ext cx="874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580080" y="1143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oscenza p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4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11280" y="2292480"/>
            <a:ext cx="1803600" cy="279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49600" y="2292480"/>
            <a:ext cx="3394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600 a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a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coprire le leggi della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83560" y="114300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od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5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83560" y="114300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od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65360" y="21207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ggi della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79760" y="4200480"/>
            <a:ext cx="33210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odi di  osserv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di anal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curi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375080" y="2603520"/>
            <a:ext cx="2251080" cy="1347840"/>
            <a:chOff x="4375080" y="2603520"/>
            <a:chExt cx="2251080" cy="1347840"/>
          </a:xfrm>
        </p:grpSpPr>
        <p:sp>
          <p:nvSpPr>
            <p:cNvPr id="260" name=""/>
            <p:cNvSpPr/>
            <p:nvPr/>
          </p:nvSpPr>
          <p:spPr>
            <a:xfrm>
              <a:off x="5146560" y="309888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necess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75080" y="2603520"/>
              <a:ext cx="0" cy="1347840"/>
            </a:xfrm>
            <a:prstGeom prst="line">
              <a:avLst/>
            </a:prstGeom>
            <a:ln w="28440">
              <a:solidFill>
                <a:srgbClr val="ffff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6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7840" y="1143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cessità metodolog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400" y="2643120"/>
            <a:ext cx="26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s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52680" y="2590920"/>
            <a:ext cx="4370400" cy="1466640"/>
            <a:chOff x="1552680" y="2590920"/>
            <a:chExt cx="4370400" cy="146664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552680" y="2590920"/>
              <a:ext cx="211608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890880" y="2590920"/>
              <a:ext cx="2032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W. Kandinski 1866-19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Composizione VIII 19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689360" y="3111480"/>
            <a:ext cx="0" cy="56844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3828960"/>
            <a:ext cx="265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idera solo le proprietà necessarie per risolvere un 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5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3880" y="2057400"/>
            <a:ext cx="6705720" cy="2536920"/>
            <a:chOff x="1523880" y="2057400"/>
            <a:chExt cx="6705720" cy="25369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523880" y="2057400"/>
              <a:ext cx="249264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648320" y="2716200"/>
              <a:ext cx="358128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tavoletta paleobabilonese 1800 -1600 a.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prima testimonianza nota  relativa al teorema di Pitag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un quadrato con le due diagon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371600" y="762120"/>
            <a:ext cx="31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mento immag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79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57840" y="1143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cessità metodolog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73400" y="2643120"/>
            <a:ext cx="26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eneral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89360" y="3111480"/>
            <a:ext cx="0" cy="56844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73400" y="382896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Valere in tutti i c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29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30840" y="1143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cessità metodolog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41920" y="3319560"/>
            <a:ext cx="755640" cy="0"/>
          </a:xfrm>
          <a:prstGeom prst="line">
            <a:avLst/>
          </a:prstGeom>
          <a:ln w="28440">
            <a:solidFill>
              <a:srgbClr val="ffff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16120" y="3089160"/>
            <a:ext cx="6338880" cy="1191240"/>
            <a:chOff x="1716120" y="3089160"/>
            <a:chExt cx="6338880" cy="1191240"/>
          </a:xfrm>
        </p:grpSpPr>
        <p:sp>
          <p:nvSpPr>
            <p:cNvPr id="297" name=""/>
            <p:cNvSpPr/>
            <p:nvPr/>
          </p:nvSpPr>
          <p:spPr>
            <a:xfrm>
              <a:off x="1716120" y="3089160"/>
              <a:ext cx="181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ASTRAZIONE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1880" y="30891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Arial"/>
                </a:rPr>
                <a:t>GENERALIZZ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0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30840" y="1143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cessità metodolog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473280" y="2062080"/>
            <a:ext cx="2540160" cy="3175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689280" y="334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12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58040" y="114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73360" y="2643120"/>
            <a:ext cx="2235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i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utoevident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9360" y="3483000"/>
            <a:ext cx="0" cy="568440"/>
          </a:xfrm>
          <a:prstGeom prst="line">
            <a:avLst/>
          </a:prstGeom>
          <a:ln w="28440">
            <a:solidFill>
              <a:srgbClr val="ffff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45000" y="428616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rità as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23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1880" y="2292480"/>
            <a:ext cx="3394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543 d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per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ovo approccio alla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99520" y="114300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511280" y="2292480"/>
            <a:ext cx="21049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33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99520" y="114300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4160" y="170496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osserv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4760" y="239400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pot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4160" y="3067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sper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08320" y="2071800"/>
            <a:ext cx="0" cy="29664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14800" y="2071800"/>
            <a:ext cx="0" cy="99540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08320" y="2770200"/>
            <a:ext cx="0" cy="29700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81440" y="3522600"/>
            <a:ext cx="0" cy="29700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60640" y="3887640"/>
            <a:ext cx="200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talogazione dei dati sperimen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93920" y="1906560"/>
            <a:ext cx="0" cy="4014720"/>
          </a:xfrm>
          <a:prstGeom prst="line">
            <a:avLst/>
          </a:prstGeom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1440" y="4546440"/>
            <a:ext cx="0" cy="29700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48040" y="492768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egolarità / ripetitiv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94040" y="5345280"/>
            <a:ext cx="0" cy="29664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94040" y="326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58120" y="57294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4d"/>
                </a:solidFill>
                <a:latin typeface="Arial"/>
              </a:rPr>
              <a:t>legge scient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05080" y="1906560"/>
            <a:ext cx="579240" cy="0"/>
          </a:xfrm>
          <a:prstGeom prst="line">
            <a:avLst/>
          </a:prstGeom>
          <a:ln w="936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05080" y="5921280"/>
            <a:ext cx="579240" cy="0"/>
          </a:xfrm>
          <a:prstGeom prst="line">
            <a:avLst/>
          </a:prstGeom>
          <a:ln w="9360">
            <a:solidFill>
              <a:srgbClr val="fff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19280" y="2705040"/>
            <a:ext cx="1265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1920960"/>
            <a:ext cx="188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verif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39960" y="4230720"/>
            <a:ext cx="183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6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99520" y="114300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040" y="326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10364400">
            <a:off x="3076560" y="2519280"/>
            <a:ext cx="3252960" cy="2820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836960" y="38512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02160" y="326556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leg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49560" y="427680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57760" y="24112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leg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7640" y="31129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4d"/>
                </a:solidFill>
                <a:latin typeface="Arial"/>
              </a:rPr>
              <a:t>te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7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62760" y="114300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 - 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273204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16320" y="3181320"/>
            <a:ext cx="0" cy="63504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40280" y="3181320"/>
            <a:ext cx="0" cy="63504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91200" y="273204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87520" y="382896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eneraliz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05360" y="382896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eneralizz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16320" y="4286160"/>
            <a:ext cx="0" cy="47016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40280" y="4286160"/>
            <a:ext cx="0" cy="47016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87520" y="476892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erf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11840" y="476892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mperfezione al re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330080" y="4262760"/>
            <a:ext cx="452160" cy="453600"/>
            <a:chOff x="4330080" y="4262760"/>
            <a:chExt cx="452160" cy="453600"/>
          </a:xfrm>
        </p:grpSpPr>
        <p:sp>
          <p:nvSpPr>
            <p:cNvPr id="391" name=""/>
            <p:cNvSpPr/>
            <p:nvPr/>
          </p:nvSpPr>
          <p:spPr>
            <a:xfrm>
              <a:off x="4330080" y="4266720"/>
              <a:ext cx="452160" cy="445680"/>
            </a:xfrm>
            <a:prstGeom prst="line">
              <a:avLst/>
            </a:prstGeom>
            <a:ln w="19080">
              <a:solidFill>
                <a:srgbClr val="e3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334040" y="4262760"/>
              <a:ext cx="444240" cy="453600"/>
            </a:xfrm>
            <a:prstGeom prst="line">
              <a:avLst/>
            </a:prstGeom>
            <a:ln w="19080">
              <a:solidFill>
                <a:srgbClr val="e3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396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62760" y="114300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 - 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73360" y="2643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89360" y="3483000"/>
            <a:ext cx="0" cy="568440"/>
          </a:xfrm>
          <a:prstGeom prst="line">
            <a:avLst/>
          </a:prstGeom>
          <a:ln w="28440">
            <a:solidFill>
              <a:srgbClr val="ffff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45000" y="428616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0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62760" y="114300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 - 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05040" y="313848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7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371600" y="1798560"/>
          <a:ext cx="757080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98560"/>
                    <a:ext cx="75708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371600" y="762120"/>
            <a:ext cx="31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gramma cor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16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62760" y="114300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 - 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44600" y="28288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gge scient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73720" y="28162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gge 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89160" y="3851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mut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59400" y="3851280"/>
            <a:ext cx="11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ut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49800" y="3225960"/>
            <a:ext cx="0" cy="62532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24280" y="3225960"/>
            <a:ext cx="0" cy="62532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3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62760" y="114300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duzione - 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70360" y="28288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oria della prob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51200" y="4422600"/>
            <a:ext cx="160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babilità degli e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49680" y="3479760"/>
            <a:ext cx="0" cy="625680"/>
          </a:xfrm>
          <a:prstGeom prst="line">
            <a:avLst/>
          </a:prstGeom>
          <a:ln w="19080">
            <a:solidFill>
              <a:srgbClr val="ffff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41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37400" y="1143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pi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9120" y="2828880"/>
            <a:ext cx="49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cercare (su internet e/o nelle biblioteche) almeno un testo (articolo o libro) che riporta dei temi discussi o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5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13832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39920" y="3057480"/>
            <a:ext cx="49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audio.deldon@lu.unisi.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45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80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219320" y="243828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CENNI SU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STORIA DELL’EVOLU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32936"/>
                </a:solidFill>
                <a:latin typeface="Arial"/>
              </a:rPr>
              <a:t>DEL METODO SCIENTI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52280"/>
            <a:ext cx="49532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SO SILSIS, UNITÀ 1   22.12.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f. Claudio Del D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88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4320" y="1143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gramma del 22.12.0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124000"/>
            <a:ext cx="606600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troduzione / present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biettiv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iv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6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flessione in piccoli grup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 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aus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peach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6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mpi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clusioni - Bilanc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97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4600" y="1143000"/>
            <a:ext cx="14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bbiet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435400"/>
            <a:ext cx="4367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oscere i metodi scienti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pire le conseguenze nelle sci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seguenze sul pensiero scienti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06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96120" y="114300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tti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979640"/>
            <a:ext cx="4367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sta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fficol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ac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lementi ess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t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er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15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10808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85000" y="1143000"/>
            <a:ext cx="27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ttivazione - conseg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979640"/>
            <a:ext cx="58672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flettere sui vocaboli elencati discutendone il   significato in rapporto all’insegnamento delle discipline scientif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vvistare in forma di parole chiavi i risultati della rifl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esentare brevemente gli elementi secondo voi significativi della rifle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5040" y="30240"/>
            <a:ext cx="1173960" cy="1084680"/>
            <a:chOff x="-5040" y="30240"/>
            <a:chExt cx="1173960" cy="1084680"/>
          </a:xfrm>
        </p:grpSpPr>
        <p:sp>
          <p:nvSpPr>
            <p:cNvPr id="124" name=""/>
            <p:cNvSpPr/>
            <p:nvPr/>
          </p:nvSpPr>
          <p:spPr>
            <a:xfrm flipH="1">
              <a:off x="507960" y="561600"/>
              <a:ext cx="660960" cy="553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-5040" y="30240"/>
              <a:ext cx="761040" cy="5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-1080" y="565920"/>
              <a:ext cx="114516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3976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2936"/>
                </a:solidFill>
                <a:latin typeface="Arial"/>
              </a:rPr>
              <a:t>Cenni sulla storia dell’evoluzione del metodo scientif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4040" y="114300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e dello sp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0040" y="1776240"/>
            <a:ext cx="6705720" cy="50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todo scienti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me si sviluppa la sci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cesso della scop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oscenza p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t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cessità metodolog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duzione - Ind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2:02:35Z</dcterms:created>
  <dc:creator>Annelise Del Don</dc:creator>
  <dc:description/>
  <dc:language>en-US</dc:language>
  <cp:lastModifiedBy>Annelise Del Don</cp:lastModifiedBy>
  <cp:lastPrinted>2004-12-20T20:42:33Z</cp:lastPrinted>
  <dcterms:modified xsi:type="dcterms:W3CDTF">2004-12-20T21:45:11Z</dcterms:modified>
  <cp:revision>111</cp:revision>
  <dc:subject/>
  <dc:title>PowerPoint Presentation</dc:title>
</cp:coreProperties>
</file>