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ct" ContentType="image/x-pict"/>
  <Override PartName="/ppt/media/image4.pct" ContentType="image/x-pict"/>
  <Override PartName="/ppt/media/image7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19320" y="152280"/>
            <a:ext cx="7086600" cy="4411800"/>
            <a:chOff x="1219320" y="152280"/>
            <a:chExt cx="7086600" cy="4411800"/>
          </a:xfrm>
        </p:grpSpPr>
        <p:sp>
          <p:nvSpPr>
            <p:cNvPr id="46" name=""/>
            <p:cNvSpPr/>
            <p:nvPr/>
          </p:nvSpPr>
          <p:spPr>
            <a:xfrm>
              <a:off x="1219320" y="2438280"/>
              <a:ext cx="708660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ffff"/>
                  </a:solidFill>
                  <a:latin typeface="Arial"/>
                </a:rPr>
                <a:t>METODO SCIENTIFIC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3600" spc="-1" strike="noStrike">
                  <a:solidFill>
                    <a:srgbClr val="ffffff"/>
                  </a:solidFill>
                  <a:latin typeface="Arial"/>
                </a:rPr>
                <a:t>DIDATTICA DELLE SCIEN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152280"/>
              <a:ext cx="381024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CORSO SIL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Prof. Claudio Del Don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69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435400"/>
            <a:ext cx="6296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92440" y="114300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89160" y="30700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CI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4040" y="30700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262320"/>
            <a:ext cx="1065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8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91000" y="115560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Macintosh HD:Users:claudiodeldon:Desktop:PAVIA04/05:metoda-unità2-120105:ROBERTA copia.MPG" descr=""/>
          <p:cNvPicPr/>
          <p:nvPr/>
        </p:nvPicPr>
        <p:blipFill>
          <a:blip r:embed="rId1"/>
          <a:stretch/>
        </p:blipFill>
        <p:spPr>
          <a:xfrm>
            <a:off x="1984320" y="1681200"/>
            <a:ext cx="63198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9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2468520"/>
            <a:ext cx="15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01312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419640" y="2717640"/>
            <a:ext cx="309708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0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09840" y="2468520"/>
            <a:ext cx="11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u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18240" y="287172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oc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40200" y="542304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sc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01312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51320" y="3198960"/>
            <a:ext cx="163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14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09840" y="24685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01312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68600" y="2730600"/>
            <a:ext cx="2617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2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09840" y="246852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onalità so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33600" y="201312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543480" y="2801880"/>
            <a:ext cx="2286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36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09840" y="246852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es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01312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505320" y="2862360"/>
            <a:ext cx="26096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4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2160" y="2948040"/>
            <a:ext cx="20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l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488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stof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09840" y="246852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pporti vi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01312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 video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59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722760" y="2490840"/>
            <a:ext cx="2138400" cy="662040"/>
            <a:chOff x="3722760" y="2490840"/>
            <a:chExt cx="2138400" cy="662040"/>
          </a:xfrm>
        </p:grpSpPr>
        <p:sp>
          <p:nvSpPr>
            <p:cNvPr id="265" name=""/>
            <p:cNvSpPr/>
            <p:nvPr/>
          </p:nvSpPr>
          <p:spPr>
            <a:xfrm>
              <a:off x="3722760" y="2490840"/>
              <a:ext cx="2081160" cy="662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30760" y="2625840"/>
              <a:ext cx="203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aaaaaa"/>
                  </a:solidFill>
                  <a:latin typeface="Arial"/>
                </a:rPr>
                <a:t>Canali cognitiv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38320" y="3679920"/>
            <a:ext cx="1257480" cy="485640"/>
            <a:chOff x="2038320" y="3679920"/>
            <a:chExt cx="1257480" cy="485640"/>
          </a:xfrm>
        </p:grpSpPr>
        <p:sp>
          <p:nvSpPr>
            <p:cNvPr id="268" name=""/>
            <p:cNvSpPr/>
            <p:nvPr/>
          </p:nvSpPr>
          <p:spPr>
            <a:xfrm>
              <a:off x="2038320" y="3679920"/>
              <a:ext cx="1257480" cy="48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44600" y="3772080"/>
              <a:ext cx="95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udit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76520" y="3689280"/>
            <a:ext cx="1295640" cy="486000"/>
            <a:chOff x="3476520" y="3689280"/>
            <a:chExt cx="1295640" cy="486000"/>
          </a:xfrm>
        </p:grpSpPr>
        <p:sp>
          <p:nvSpPr>
            <p:cNvPr id="271" name=""/>
            <p:cNvSpPr/>
            <p:nvPr/>
          </p:nvSpPr>
          <p:spPr>
            <a:xfrm>
              <a:off x="3476520" y="3689280"/>
              <a:ext cx="1257480" cy="48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13120" y="3776760"/>
              <a:ext cx="95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vis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941720" y="3695760"/>
            <a:ext cx="1257120" cy="485640"/>
            <a:chOff x="4941720" y="3695760"/>
            <a:chExt cx="1257120" cy="485640"/>
          </a:xfrm>
        </p:grpSpPr>
        <p:sp>
          <p:nvSpPr>
            <p:cNvPr id="274" name=""/>
            <p:cNvSpPr/>
            <p:nvPr/>
          </p:nvSpPr>
          <p:spPr>
            <a:xfrm>
              <a:off x="4941720" y="3695760"/>
              <a:ext cx="1257120" cy="48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14600" y="3794040"/>
              <a:ext cx="95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tat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365880" y="3697200"/>
            <a:ext cx="1305000" cy="486000"/>
            <a:chOff x="6365880" y="3697200"/>
            <a:chExt cx="1305000" cy="486000"/>
          </a:xfrm>
        </p:grpSpPr>
        <p:sp>
          <p:nvSpPr>
            <p:cNvPr id="277" name=""/>
            <p:cNvSpPr/>
            <p:nvPr/>
          </p:nvSpPr>
          <p:spPr>
            <a:xfrm>
              <a:off x="6365880" y="3697200"/>
              <a:ext cx="1257480" cy="48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12200" y="3770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aaaaaa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811160" y="4913280"/>
            <a:ext cx="905040" cy="377640"/>
            <a:chOff x="1811160" y="4913280"/>
            <a:chExt cx="905040" cy="377640"/>
          </a:xfrm>
        </p:grpSpPr>
        <p:sp>
          <p:nvSpPr>
            <p:cNvPr id="280" name=""/>
            <p:cNvSpPr/>
            <p:nvPr/>
          </p:nvSpPr>
          <p:spPr>
            <a:xfrm>
              <a:off x="1811160" y="4913280"/>
              <a:ext cx="905040" cy="377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8000" y="4940280"/>
              <a:ext cx="7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pa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206880" y="4892760"/>
            <a:ext cx="904680" cy="377640"/>
            <a:chOff x="3206880" y="4892760"/>
            <a:chExt cx="904680" cy="377640"/>
          </a:xfrm>
        </p:grpSpPr>
        <p:sp>
          <p:nvSpPr>
            <p:cNvPr id="283" name=""/>
            <p:cNvSpPr/>
            <p:nvPr/>
          </p:nvSpPr>
          <p:spPr>
            <a:xfrm>
              <a:off x="3206880" y="4892760"/>
              <a:ext cx="904680" cy="377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19560" y="49305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scrit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21080" y="4916520"/>
            <a:ext cx="957240" cy="377640"/>
            <a:chOff x="4321080" y="4916520"/>
            <a:chExt cx="957240" cy="377640"/>
          </a:xfrm>
        </p:grpSpPr>
        <p:sp>
          <p:nvSpPr>
            <p:cNvPr id="286" name=""/>
            <p:cNvSpPr/>
            <p:nvPr/>
          </p:nvSpPr>
          <p:spPr>
            <a:xfrm>
              <a:off x="4321080" y="4916520"/>
              <a:ext cx="905040" cy="377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32240" y="495000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immag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>
            <a:off x="2900880" y="3172320"/>
            <a:ext cx="733320" cy="4118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3440" y="3205800"/>
            <a:ext cx="1440" cy="41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467320" y="3205800"/>
            <a:ext cx="360" cy="41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18360" y="4263480"/>
            <a:ext cx="203760" cy="5108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9920" y="3120840"/>
            <a:ext cx="677520" cy="49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17760" y="4267440"/>
            <a:ext cx="249840" cy="48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304000" y="4263480"/>
            <a:ext cx="204120" cy="5108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9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78400" y="1143000"/>
            <a:ext cx="37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0131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38160" y="3110040"/>
            <a:ext cx="211140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appresentazioni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gge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35640" y="3105000"/>
            <a:ext cx="211140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stacol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ultu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68720" y="3430440"/>
            <a:ext cx="1270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43200" y="4762440"/>
            <a:ext cx="211140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ori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conosci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32320" y="3573360"/>
            <a:ext cx="554040" cy="693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87800" y="3444840"/>
            <a:ext cx="641520" cy="1095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13120" y="3428640"/>
            <a:ext cx="613800" cy="111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5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1371600" y="1798560"/>
          <a:ext cx="757080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98560"/>
                    <a:ext cx="75708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371600" y="762120"/>
            <a:ext cx="31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gramma cor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341440" y="1814400"/>
            <a:ext cx="6497640" cy="4378320"/>
            <a:chOff x="2341440" y="1814400"/>
            <a:chExt cx="6497640" cy="4378320"/>
          </a:xfrm>
        </p:grpSpPr>
        <p:sp>
          <p:nvSpPr>
            <p:cNvPr id="59" name=""/>
            <p:cNvSpPr/>
            <p:nvPr/>
          </p:nvSpPr>
          <p:spPr>
            <a:xfrm>
              <a:off x="2341440" y="1814400"/>
              <a:ext cx="1614600" cy="3783240"/>
            </a:xfrm>
            <a:prstGeom prst="rect">
              <a:avLst/>
            </a:prstGeom>
            <a:solidFill>
              <a:srgbClr val="aaaaa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62680" y="1816200"/>
              <a:ext cx="2876400" cy="4376520"/>
            </a:xfrm>
            <a:prstGeom prst="rect">
              <a:avLst/>
            </a:prstGeom>
            <a:solidFill>
              <a:srgbClr val="aaaaa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 repeatCount="100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14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84360" y="114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vorire le epistemologie individu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49760" y="2741760"/>
            <a:ext cx="201168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testo di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veni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51560" y="4260960"/>
            <a:ext cx="199872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appresentazioni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gge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60560" y="2733840"/>
            <a:ext cx="199872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dividu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stud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14960" y="3057480"/>
            <a:ext cx="804960" cy="10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507000" y="3488040"/>
            <a:ext cx="360" cy="6440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27560" y="4668840"/>
            <a:ext cx="804960" cy="10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71480" y="3583800"/>
            <a:ext cx="1364760" cy="105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101800">
            <a:off x="2621880" y="3871440"/>
            <a:ext cx="179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valor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3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4360" y="114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vorire le epistemologie individu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40160" y="2887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grup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198520"/>
            <a:ext cx="65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rganizzazione sociale /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76520" y="2622600"/>
            <a:ext cx="12600" cy="2120760"/>
          </a:xfrm>
          <a:prstGeom prst="line">
            <a:avLst/>
          </a:prstGeom>
          <a:ln w="1908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33560" y="54370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4d"/>
                </a:solidFill>
                <a:latin typeface="Arial"/>
              </a:rPr>
              <a:t>Confronto tra p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sociocogni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52760" y="351792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divid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40160" y="41180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classe (laboratorio didat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4800">
            <a:off x="4048920" y="3581280"/>
            <a:ext cx="284400" cy="3119400"/>
          </a:xfrm>
          <a:custGeom>
            <a:avLst/>
            <a:gdLst>
              <a:gd name="textAreaLeft" fmla="*/ 0 w 284400"/>
              <a:gd name="textAreaRight" fmla="*/ 102600 w 284400"/>
              <a:gd name="textAreaTop" fmla="*/ 81360 h 3119400"/>
              <a:gd name="textAreaBottom" fmla="*/ 3038040 h 31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80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100"/>
                            </p:stCondLst>
                            <p:childTnLst>
                              <p:par>
                                <p:cTn id="5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4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84360" y="114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vorire le epistemologie individu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49760" y="2898720"/>
            <a:ext cx="20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mun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28880" y="5079960"/>
            <a:ext cx="199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voluzione dell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appresentazion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33560" y="2697120"/>
            <a:ext cx="1998720" cy="642600"/>
          </a:xfrm>
          <a:prstGeom prst="rect">
            <a:avLst/>
          </a:prstGeom>
          <a:noFill/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front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ciocogn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14960" y="3057480"/>
            <a:ext cx="804960" cy="10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2906640" y="3472560"/>
            <a:ext cx="16200" cy="520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30320" y="3987720"/>
            <a:ext cx="20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ifle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2925720" y="4470840"/>
            <a:ext cx="9360" cy="52128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6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95560" y="114300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presa obbiettivi - conclu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301760" y="1859040"/>
            <a:ext cx="3828960" cy="1044000"/>
            <a:chOff x="1301760" y="1859040"/>
            <a:chExt cx="3828960" cy="1044000"/>
          </a:xfrm>
        </p:grpSpPr>
        <p:sp>
          <p:nvSpPr>
            <p:cNvPr id="366" name=""/>
            <p:cNvSpPr/>
            <p:nvPr/>
          </p:nvSpPr>
          <p:spPr>
            <a:xfrm>
              <a:off x="1306440" y="1859040"/>
              <a:ext cx="3824280" cy="85068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01760" y="1986120"/>
              <a:ext cx="380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4040" indent="-284040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Capire il concetto di osservazione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803920" y="3600360"/>
            <a:ext cx="23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4d"/>
                </a:solidFill>
                <a:latin typeface="Arial"/>
              </a:rPr>
              <a:t>CONCLU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32080" y="3174840"/>
            <a:ext cx="336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311120" y="2886120"/>
            <a:ext cx="4148280" cy="1002600"/>
            <a:chOff x="1311120" y="2886120"/>
            <a:chExt cx="4148280" cy="1002600"/>
          </a:xfrm>
        </p:grpSpPr>
        <p:sp>
          <p:nvSpPr>
            <p:cNvPr id="371" name=""/>
            <p:cNvSpPr/>
            <p:nvPr/>
          </p:nvSpPr>
          <p:spPr>
            <a:xfrm>
              <a:off x="1311120" y="2886120"/>
              <a:ext cx="3824280" cy="85068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11120" y="2971800"/>
              <a:ext cx="414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9000" indent="-189000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Ruolo del metodo scientifico nella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scuola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316160" y="3844800"/>
            <a:ext cx="3968640" cy="1045800"/>
            <a:chOff x="1316160" y="3844800"/>
            <a:chExt cx="3968640" cy="1045800"/>
          </a:xfrm>
        </p:grpSpPr>
        <p:sp>
          <p:nvSpPr>
            <p:cNvPr id="374" name=""/>
            <p:cNvSpPr/>
            <p:nvPr/>
          </p:nvSpPr>
          <p:spPr>
            <a:xfrm>
              <a:off x="1316160" y="3844800"/>
              <a:ext cx="3824280" cy="85104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25520" y="3973680"/>
              <a:ext cx="3959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Relazione fra metodo scientifico 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 e  apprendimento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333440" y="4830840"/>
            <a:ext cx="3826080" cy="1243080"/>
            <a:chOff x="1333440" y="4830840"/>
            <a:chExt cx="3826080" cy="1243080"/>
          </a:xfrm>
        </p:grpSpPr>
        <p:sp>
          <p:nvSpPr>
            <p:cNvPr id="377" name=""/>
            <p:cNvSpPr/>
            <p:nvPr/>
          </p:nvSpPr>
          <p:spPr>
            <a:xfrm>
              <a:off x="1335240" y="4830840"/>
              <a:ext cx="3824280" cy="124308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3440" y="4859280"/>
              <a:ext cx="375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Capire quali attività / setting 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 favoriscono la coerenza fra 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 metodo scientifico  </a:t>
              </a:r>
              <a:br>
                <a:rPr sz="1800"/>
              </a:b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   e apprend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8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5600" y="115740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p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22360" y="2498760"/>
            <a:ext cx="549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cordare in quanto sentito, visto e vissut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gli elementi comuni e diversi fra epistemologi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delle scienze e quella dell’individu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portare in forma di parole chiavi il riass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9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64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219320" y="2438280"/>
            <a:ext cx="7086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METODO SCIENTI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TRADUZIONE DIDAT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52280"/>
            <a:ext cx="49532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SO SILSIS, UNITÀ 1   12.01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f. Claudio Del D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7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45080" y="1143000"/>
            <a:ext cx="34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gramma del 12.01.05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2124000"/>
            <a:ext cx="6883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capitol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biettiv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alisi della bibliografia raccolt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6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aus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pistemologie a confron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5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vorire le epistemologie individuali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presa degli obiettivi - Conclusio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3995640"/>
                <a:tab algn="l" pos="4565520"/>
                <a:tab algn="l" pos="4948200"/>
                <a:tab algn="l" pos="5865840"/>
                <a:tab algn="l" pos="7039080"/>
                <a:tab algn="l" pos="8211960"/>
                <a:tab algn="l" pos="9385200"/>
                <a:tab algn="l" pos="105584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mpi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8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430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capitol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2046240"/>
            <a:ext cx="6929280" cy="436248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06800" y="2651040"/>
            <a:ext cx="2112840" cy="1311480"/>
            <a:chOff x="2206800" y="2651040"/>
            <a:chExt cx="2112840" cy="1311480"/>
          </a:xfrm>
        </p:grpSpPr>
        <p:sp>
          <p:nvSpPr>
            <p:cNvPr id="88" name=""/>
            <p:cNvSpPr/>
            <p:nvPr/>
          </p:nvSpPr>
          <p:spPr>
            <a:xfrm>
              <a:off x="2206800" y="2651040"/>
              <a:ext cx="2112840" cy="131148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16320" y="2897280"/>
              <a:ext cx="16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Epistemologia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della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scien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96080" y="3314880"/>
            <a:ext cx="2112840" cy="1311120"/>
            <a:chOff x="5896080" y="3314880"/>
            <a:chExt cx="2112840" cy="1311120"/>
          </a:xfrm>
        </p:grpSpPr>
        <p:sp>
          <p:nvSpPr>
            <p:cNvPr id="91" name=""/>
            <p:cNvSpPr/>
            <p:nvPr/>
          </p:nvSpPr>
          <p:spPr>
            <a:xfrm>
              <a:off x="5896080" y="3314880"/>
              <a:ext cx="2112840" cy="131112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70600" y="3619440"/>
              <a:ext cx="194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Rappresentazione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degli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studen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517920" y="4890960"/>
            <a:ext cx="2112840" cy="1311480"/>
            <a:chOff x="3517920" y="4890960"/>
            <a:chExt cx="2112840" cy="1311480"/>
          </a:xfrm>
        </p:grpSpPr>
        <p:sp>
          <p:nvSpPr>
            <p:cNvPr id="94" name=""/>
            <p:cNvSpPr/>
            <p:nvPr/>
          </p:nvSpPr>
          <p:spPr>
            <a:xfrm>
              <a:off x="3517920" y="4890960"/>
              <a:ext cx="2112840" cy="131148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54440" y="5234040"/>
              <a:ext cx="1616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Compito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bibliograf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99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7960" y="114300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bbiet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435400"/>
            <a:ext cx="62960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pire il concetto di osser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uolo del metodo scientifico nel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lazione fra metodo scientifico e 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pire quali attività / setting favoriscono la coerenza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fra metodo scientifico  e apprendi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1120" y="1566720"/>
            <a:ext cx="6620040" cy="5094360"/>
          </a:xfrm>
          <a:prstGeom prst="rect">
            <a:avLst/>
          </a:prstGeom>
          <a:solidFill>
            <a:srgbClr val="aaaaaa"/>
          </a:solidFill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30360" y="2868480"/>
            <a:ext cx="4719600" cy="3576600"/>
            <a:chOff x="1530360" y="2868480"/>
            <a:chExt cx="4719600" cy="3576600"/>
          </a:xfrm>
        </p:grpSpPr>
        <p:sp>
          <p:nvSpPr>
            <p:cNvPr id="107" name=""/>
            <p:cNvSpPr/>
            <p:nvPr/>
          </p:nvSpPr>
          <p:spPr>
            <a:xfrm>
              <a:off x="1530360" y="2868480"/>
              <a:ext cx="4719600" cy="357660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1240" y="3235320"/>
              <a:ext cx="1440000" cy="107460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9240" y="3792600"/>
              <a:ext cx="1440000" cy="107640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95760" y="5119560"/>
              <a:ext cx="1441440" cy="1074960"/>
            </a:xfrm>
            <a:prstGeom prst="ellipse">
              <a:avLst/>
            </a:prstGeom>
            <a:solidFill>
              <a:srgbClr val="aaaaaa"/>
            </a:solidFill>
            <a:ln w="936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5240" y="3435480"/>
              <a:ext cx="1306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Epistemologia</a:t>
              </a:r>
              <a:br>
                <a:rPr sz="1200"/>
              </a:b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della</a:t>
              </a:r>
              <a:br>
                <a:rPr sz="1200"/>
              </a:b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scie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49800" y="4084560"/>
              <a:ext cx="1668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Rappresentazione degli</a:t>
              </a:r>
              <a:br>
                <a:rPr sz="1200"/>
              </a:b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stud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52720" y="5400720"/>
              <a:ext cx="110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Compito</a:t>
              </a:r>
              <a:br>
                <a:rPr sz="1200"/>
              </a:b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bibliograf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1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9400" y="11430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bbiet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29080" y="1884240"/>
            <a:ext cx="1725480" cy="798480"/>
            <a:chOff x="2629080" y="1884240"/>
            <a:chExt cx="1725480" cy="798480"/>
          </a:xfrm>
        </p:grpSpPr>
        <p:sp>
          <p:nvSpPr>
            <p:cNvPr id="123" name=""/>
            <p:cNvSpPr/>
            <p:nvPr/>
          </p:nvSpPr>
          <p:spPr>
            <a:xfrm>
              <a:off x="2711520" y="1884240"/>
              <a:ext cx="1600200" cy="798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9080" y="2054160"/>
              <a:ext cx="172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Epistemologia</a:t>
              </a:r>
              <a:br>
                <a:rPr sz="1400"/>
              </a:b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dell’individu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224840" y="3997440"/>
            <a:ext cx="1919160" cy="798480"/>
            <a:chOff x="7224840" y="3997440"/>
            <a:chExt cx="1919160" cy="798480"/>
          </a:xfrm>
        </p:grpSpPr>
        <p:sp>
          <p:nvSpPr>
            <p:cNvPr id="126" name=""/>
            <p:cNvSpPr/>
            <p:nvPr/>
          </p:nvSpPr>
          <p:spPr>
            <a:xfrm>
              <a:off x="7316640" y="3997440"/>
              <a:ext cx="1779480" cy="798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4840" y="4167360"/>
              <a:ext cx="191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        </a:t>
              </a: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Confronto</a:t>
              </a:r>
              <a:br>
                <a:rPr sz="1400"/>
              </a:b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        prossimi  pass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1360" y="4268880"/>
              <a:ext cx="193320" cy="317520"/>
            </a:xfrm>
            <a:custGeom>
              <a:avLst/>
              <a:gdLst>
                <a:gd name="textAreaLeft" fmla="*/ 25920 w 193320"/>
                <a:gd name="textAreaRight" fmla="*/ 167400 w 193320"/>
                <a:gd name="textAreaTop" fmla="*/ 55440 h 317520"/>
                <a:gd name="textAreaBottom" fmla="*/ 23040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100320" y="2738520"/>
            <a:ext cx="336600" cy="4953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07040" y="1890360"/>
            <a:ext cx="60948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989600" y="1868400"/>
            <a:ext cx="1117440" cy="466920"/>
            <a:chOff x="4989600" y="1868400"/>
            <a:chExt cx="1117440" cy="466920"/>
          </a:xfrm>
        </p:grpSpPr>
        <p:sp>
          <p:nvSpPr>
            <p:cNvPr id="132" name=""/>
            <p:cNvSpPr/>
            <p:nvPr/>
          </p:nvSpPr>
          <p:spPr>
            <a:xfrm>
              <a:off x="5042880" y="1868400"/>
              <a:ext cx="1036080" cy="466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9600" y="1968480"/>
              <a:ext cx="111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Film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5706360" y="2652120"/>
            <a:ext cx="1292040" cy="1273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730840" y="5721480"/>
            <a:ext cx="1644840" cy="798480"/>
            <a:chOff x="5730840" y="5721480"/>
            <a:chExt cx="1644840" cy="798480"/>
          </a:xfrm>
        </p:grpSpPr>
        <p:sp>
          <p:nvSpPr>
            <p:cNvPr id="136" name=""/>
            <p:cNvSpPr/>
            <p:nvPr/>
          </p:nvSpPr>
          <p:spPr>
            <a:xfrm>
              <a:off x="5730840" y="5721480"/>
              <a:ext cx="1600200" cy="798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9640" y="5862960"/>
              <a:ext cx="1256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Bibliografia</a:t>
              </a:r>
              <a:br>
                <a:rPr sz="1400"/>
              </a:b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comp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3360" y="5967720"/>
              <a:ext cx="193680" cy="317520"/>
            </a:xfrm>
            <a:custGeom>
              <a:avLst/>
              <a:gdLst>
                <a:gd name="textAreaLeft" fmla="*/ 25920 w 193680"/>
                <a:gd name="textAreaRight" fmla="*/ 167760 w 193680"/>
                <a:gd name="textAreaTop" fmla="*/ 55440 h 317520"/>
                <a:gd name="textAreaBottom" fmla="*/ 23040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384800" y="5684760"/>
            <a:ext cx="1209600" cy="21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02320" y="1895400"/>
            <a:ext cx="1117800" cy="466920"/>
            <a:chOff x="6502320" y="1895400"/>
            <a:chExt cx="1117800" cy="466920"/>
          </a:xfrm>
        </p:grpSpPr>
        <p:sp>
          <p:nvSpPr>
            <p:cNvPr id="141" name=""/>
            <p:cNvSpPr/>
            <p:nvPr/>
          </p:nvSpPr>
          <p:spPr>
            <a:xfrm>
              <a:off x="6555600" y="1895400"/>
              <a:ext cx="1036440" cy="466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02320" y="1995480"/>
              <a:ext cx="11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aaaaaa"/>
                  </a:solidFill>
                  <a:latin typeface="Arial"/>
                </a:rPr>
                <a:t>Sp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6087240" y="1851120"/>
            <a:ext cx="416160" cy="5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8480" y="4810680"/>
            <a:ext cx="550080" cy="743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1280" y="2664720"/>
            <a:ext cx="562320" cy="1241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874920" y="4884120"/>
            <a:ext cx="872640" cy="691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5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114300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della bibliografia raccol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8600" y="2435400"/>
            <a:ext cx="62960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Lavoro in sottogruppi (6persone)                             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2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lencare bibliografia / testi raccolti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confrontando quanto l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Riportare per gruppo gli aspetti considerati pi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  <a:ea typeface="ＭＳ Ｐゴシック"/>
              </a:rPr>
              <a:t>ù             40’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0" lang="it-IT" sz="1800" spc="-1" strike="noStrike">
                <a:solidFill>
                  <a:srgbClr val="ffff4d"/>
                </a:solidFill>
                <a:latin typeface="Arial"/>
                <a:ea typeface="ＭＳ Ｐゴシック"/>
              </a:rPr>
              <a:t>import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ttere su luci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958680"/>
                <a:tab algn="ctr" pos="581508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59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Metodo scientifico e tradu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27600" y="27860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83400" y="1143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u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06760" y="2922480"/>
            <a:ext cx="1792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2:02:35Z</dcterms:created>
  <dc:creator>Annelise Del Don</dc:creator>
  <dc:description/>
  <dc:language>en-US</dc:language>
  <cp:lastModifiedBy>Claudio Del Don</cp:lastModifiedBy>
  <cp:lastPrinted>2004-12-20T20:42:33Z</cp:lastPrinted>
  <dcterms:modified xsi:type="dcterms:W3CDTF">2005-01-11T21:36:24Z</dcterms:modified>
  <cp:revision>181</cp:revision>
  <dc:subject/>
  <dc:title>PowerPoint Presentation</dc:title>
</cp:coreProperties>
</file>