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537-8998-4635-B947-D3FECEAB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FF2-2C70-42F1-8DFB-1DBC0DC4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A50-AEEA-498E-A0D7-179F8F95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617-2817-4864-8E2B-3FACBD62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C3F-676E-45D3-8C07-F59B96CE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978-D04F-4BF9-8749-12190289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B30-37B6-4209-B622-C8C94B5F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713-5363-4881-80BD-479F14D0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DD0-FDCC-406E-9068-F8FEBC91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E59-4111-4AAA-B9A7-3F7C1505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564-478D-4F34-A094-F164F238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DE5-A905-4643-A7F5-E55F7159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F1E2-6327-42DA-A997-C84E6821B2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xoomer.virgilio.it/fisicaeoltre/news/scopertaacqua.htm" TargetMode="External"/><Relationship Id="rId2" Type="http://schemas.openxmlformats.org/officeDocument/2006/relationships/hyperlink" Target="http://xoomer.virgilio.it/fisicaeoltre/news/scopertaacqua.htm" TargetMode="External"/><Relationship Id="rId3" Type="http://schemas.openxmlformats.org/officeDocument/2006/relationships/hyperlink" Target="http://xoomer.virgilio.it/fisicaeoltre/news/scopertaacqua.htm" TargetMode="External"/><Relationship Id="rId4" Type="http://schemas.openxmlformats.org/officeDocument/2006/relationships/hyperlink" Target="http://xoomer.virgilio.it/fisicaeoltre/news/scopertaacqua.htm" TargetMode="External"/><Relationship Id="rId5" Type="http://schemas.openxmlformats.org/officeDocument/2006/relationships/hyperlink" Target="http://xoomer.virgilio.it/fisicaeoltre/news/scopertaacqua.htm" TargetMode="External"/><Relationship Id="rId6" Type="http://schemas.openxmlformats.org/officeDocument/2006/relationships/hyperlink" Target="http://xoomer.virgilio.it/fisicaeoltre/news/scopertaacqua.htm" TargetMode="External"/><Relationship Id="rId7" Type="http://schemas.openxmlformats.org/officeDocument/2006/relationships/hyperlink" Target="http://xoomer.virgilio.it/fisicaeoltre/news/scopertaacqua.htm" TargetMode="External"/><Relationship Id="rId8" Type="http://schemas.openxmlformats.org/officeDocument/2006/relationships/hyperlink" Target="http://xoomer.virgilio.it/fisicaeoltre/news/scopertaacqua.htm" TargetMode="External"/><Relationship Id="rId9" Type="http://schemas.openxmlformats.org/officeDocument/2006/relationships/hyperlink" Target="http://xoomer.virgilio.it/fisicaeoltre/news/scopertaacqua.htm" TargetMode="External"/><Relationship Id="rId10" Type="http://schemas.openxmlformats.org/officeDocument/2006/relationships/hyperlink" Target="http://www.italway.it/astro/solsys.html" TargetMode="External"/><Relationship Id="rId11" Type="http://schemas.openxmlformats.org/officeDocument/2006/relationships/hyperlink" Target="http://www.italway.it/astro/solsys.html" TargetMode="External"/><Relationship Id="rId12" Type="http://schemas.openxmlformats.org/officeDocument/2006/relationships/hyperlink" Target="http://www.italway.it/astro/solsys.html" TargetMode="External"/><Relationship Id="rId13" Type="http://schemas.openxmlformats.org/officeDocument/2006/relationships/hyperlink" Target="http://www.italway.it/astro/solsys.html" TargetMode="External"/><Relationship Id="rId14" Type="http://schemas.openxmlformats.org/officeDocument/2006/relationships/hyperlink" Target="http://www.italway.it/astro/solsys.html" TargetMode="External"/><Relationship Id="rId15" Type="http://schemas.openxmlformats.org/officeDocument/2006/relationships/hyperlink" Target="http://www.studenti.usilu.net/bellomoa/web/index.htm?top.htm&amp;1" TargetMode="External"/><Relationship Id="rId16" Type="http://schemas.openxmlformats.org/officeDocument/2006/relationships/hyperlink" Target="http://www.gaus.it/ricerche/sedna_vs_nibiru.htm" TargetMode="External"/><Relationship Id="rId17" Type="http://schemas.openxmlformats.org/officeDocument/2006/relationships/hyperlink" Target="http://www.gaus.it/ricerche/sedna_vs_nibiru.htm" TargetMode="External"/><Relationship Id="rId18" Type="http://schemas.openxmlformats.org/officeDocument/2006/relationships/hyperlink" Target="http://www.gaus.it/ricerche/sedna_vs_nibiru.htm" TargetMode="External"/><Relationship Id="rId19" Type="http://schemas.openxmlformats.org/officeDocument/2006/relationships/hyperlink" Target="http://www.gaus.it/ricerche/sedna_vs_nibiru.htm" TargetMode="External"/><Relationship Id="rId20" Type="http://schemas.openxmlformats.org/officeDocument/2006/relationships/hyperlink" Target="http://www.gaus.it/ricerche/sedna_vs_nibiru.htm" TargetMode="External"/><Relationship Id="rId21" Type="http://schemas.openxmlformats.org/officeDocument/2006/relationships/hyperlink" Target="http://www.gaus.it/ricerche/sedna_vs_nibiru.htm" TargetMode="External"/><Relationship Id="rId22" Type="http://schemas.openxmlformats.org/officeDocument/2006/relationships/hyperlink" Target="http://www.gaus.it/ricerche/sedna_vs_nibiru.htm" TargetMode="External"/><Relationship Id="rId23" Type="http://schemas.openxmlformats.org/officeDocument/2006/relationships/hyperlink" Target="http://www.gaus.it/ricerche/sedna_vs_nibiru.htm" TargetMode="External"/><Relationship Id="rId24" Type="http://schemas.openxmlformats.org/officeDocument/2006/relationships/hyperlink" Target="http://www.gaus.it/ricerche/sedna_vs_nibiru.htm" TargetMode="External"/><Relationship Id="rId25" Type="http://schemas.openxmlformats.org/officeDocument/2006/relationships/hyperlink" Target="http://www.focus.it/notizie/14525_15_3_106.asp" TargetMode="External"/><Relationship Id="rId26" Type="http://schemas.openxmlformats.org/officeDocument/2006/relationships/hyperlink" Target="http://www.focus.it/notizie/14525_15_3_106.asp" TargetMode="External"/><Relationship Id="rId27" Type="http://schemas.openxmlformats.org/officeDocument/2006/relationships/hyperlink" Target="http://www.focus.it/notizie/14525_15_3_106.asp" TargetMode="External"/><Relationship Id="rId28" Type="http://schemas.openxmlformats.org/officeDocument/2006/relationships/hyperlink" Target="http://www.nasa.gov/vision/universe/solarsystem/planet_like_body.html" TargetMode="External"/><Relationship Id="rId29" Type="http://schemas.openxmlformats.org/officeDocument/2006/relationships/hyperlink" Target="http://www.nasa.gov/vision/universe/solarsystem/planet_like_body.html" TargetMode="External"/><Relationship Id="rId30" Type="http://schemas.openxmlformats.org/officeDocument/2006/relationships/hyperlink" Target="http://www.nasa.gov/vision/universe/solarsystem/planet_like_body.html" TargetMode="External"/><Relationship Id="rId31" Type="http://schemas.openxmlformats.org/officeDocument/2006/relationships/hyperlink" Target="http://www.nasa.gov/vision/universe/solarsystem/planet_like_body.html" TargetMode="External"/><Relationship Id="rId32" Type="http://schemas.openxmlformats.org/officeDocument/2006/relationships/hyperlink" Target="http://www.nasa.gov/vision/universe/solarsystem/planet_like_body.html" TargetMode="External"/><Relationship Id="rId33" Type="http://schemas.openxmlformats.org/officeDocument/2006/relationships/hyperlink" Target="http://www.nasa.gov/vision/universe/solarsystem/planet_like_body.html" TargetMode="External"/><Relationship Id="rId34" Type="http://schemas.openxmlformats.org/officeDocument/2006/relationships/hyperlink" Target="http://www.nasa.gov/vision/universe/solarsystem/planet_like_body.html" TargetMode="External"/><Relationship Id="rId35" Type="http://schemas.openxmlformats.org/officeDocument/2006/relationships/hyperlink" Target="http://www.nasa.gov/vision/universe/solarsystem/planet_like_body.html" TargetMode="External"/><Relationship Id="rId36" Type="http://schemas.openxmlformats.org/officeDocument/2006/relationships/hyperlink" Target="http://www.nasa.gov/vision/universe/solarsystem/planet_like_body.html" TargetMode="External"/><Relationship Id="rId37" Type="http://schemas.openxmlformats.org/officeDocument/2006/relationships/hyperlink" Target="http://www.pd.astro.it/pianetav/L15_13S.html" TargetMode="External"/><Relationship Id="rId38" Type="http://schemas.openxmlformats.org/officeDocument/2006/relationships/hyperlink" Target="http://www.pd.astro.it/pianetav/L15_13S.html" TargetMode="External"/><Relationship Id="rId39" Type="http://schemas.openxmlformats.org/officeDocument/2006/relationships/hyperlink" Target="http://www.pd.astro.it/pianetav/L15_13S.html" TargetMode="External"/><Relationship Id="rId40" Type="http://schemas.openxmlformats.org/officeDocument/2006/relationships/hyperlink" Target="http://www.astrofilitrentini.it/tnp/meteorites.html" TargetMode="External"/><Relationship Id="rId41" Type="http://schemas.openxmlformats.org/officeDocument/2006/relationships/hyperlink" Target="http://www.astrofilitrentini.it/tnp/meteorites.html" TargetMode="External"/><Relationship Id="rId42" Type="http://schemas.openxmlformats.org/officeDocument/2006/relationships/hyperlink" Target="http://www.astrofilitrentini.it/tnp/meteorites.html" TargetMode="External"/><Relationship Id="rId43" Type="http://schemas.openxmlformats.org/officeDocument/2006/relationships/hyperlink" Target="http://www.astrofilitrentini.it/tnp/meteorites.html" TargetMode="External"/><Relationship Id="rId44" Type="http://schemas.openxmlformats.org/officeDocument/2006/relationships/hyperlink" Target="http://www.astrofilitrentini.it/tnp/meteorites.html" TargetMode="External"/><Relationship Id="rId45" Type="http://schemas.openxmlformats.org/officeDocument/2006/relationships/hyperlink" Target="http://www.astrofilitrentini.it/tnp/meteorites.html" TargetMode="External"/><Relationship Id="rId46" Type="http://schemas.openxmlformats.org/officeDocument/2006/relationships/hyperlink" Target="http://www.astrofilitrentini.it/tnp/meteorites.html" TargetMode="External"/><Relationship Id="rId47" Type="http://schemas.openxmlformats.org/officeDocument/2006/relationships/hyperlink" Target="http://www.astrofilitrentini.it/tnp/meteorites.html" TargetMode="External"/><Relationship Id="rId48" Type="http://schemas.openxmlformats.org/officeDocument/2006/relationships/hyperlink" Target="http://www.astrofilitrentini.it/tnp/meteorites.html" TargetMode="External"/><Relationship Id="rId49" Type="http://schemas.openxmlformats.org/officeDocument/2006/relationships/hyperlink" Target="http://www.astrosurf.com/cosmoweb/sistemasolare/corpiminori.html" TargetMode="External"/><Relationship Id="rId50" Type="http://schemas.openxmlformats.org/officeDocument/2006/relationships/hyperlink" Target="http://www.astrosurf.com/cosmoweb/sistemasolare/corpiminori.html" TargetMode="External"/><Relationship Id="rId51" Type="http://schemas.openxmlformats.org/officeDocument/2006/relationships/hyperlink" Target="http://www.astrosurf.com/cosmoweb/sistemasolare/corpiminori.html" TargetMode="External"/><Relationship Id="rId52" Type="http://schemas.openxmlformats.org/officeDocument/2006/relationships/hyperlink" Target="http://www.astrosurf.com/cosmoweb/sistemasolare/corpiminori.html" TargetMode="External"/><Relationship Id="rId53" Type="http://schemas.openxmlformats.org/officeDocument/2006/relationships/hyperlink" Target="http://www.astrosurf.com/cosmoweb/sistemasolare/corpiminori.html" TargetMode="External"/><Relationship Id="rId54" Type="http://schemas.openxmlformats.org/officeDocument/2006/relationships/hyperlink" Target="http://www.astrosurf.com/cosmoweb/sistemasolare/corpiminori.html" TargetMode="External"/><Relationship Id="rId55" Type="http://schemas.openxmlformats.org/officeDocument/2006/relationships/hyperlink" Target="http://www.astrosurf.com/cosmoweb/sistemasolare/corpiminori.html" TargetMode="External"/><Relationship Id="rId56" Type="http://schemas.openxmlformats.org/officeDocument/2006/relationships/hyperlink" Target="http://www.astrosurf.com/cosmoweb/sistemasolare/corpiminori.html" TargetMode="External"/><Relationship Id="rId57" Type="http://schemas.openxmlformats.org/officeDocument/2006/relationships/hyperlink" Target="http://www.astrosurf.com/cosmoweb/sistemasolare/corpiminori.html" TargetMode="External"/><Relationship Id="rId58" Type="http://schemas.openxmlformats.org/officeDocument/2006/relationships/hyperlink" Target="http://www.astrosurf.com/cosmoweb/sistemasolare/corpiminori.html" TargetMode="External"/><Relationship Id="rId59" Type="http://schemas.openxmlformats.org/officeDocument/2006/relationships/hyperlink" Target="http://www.astrosurf.com/cosmoweb/sistemasolare/corpiminori.html" TargetMode="External"/><Relationship Id="rId60" Type="http://schemas.openxmlformats.org/officeDocument/2006/relationships/hyperlink" Target="http://www.atnet.it/lstron/astro/sistsol/sole.htm" TargetMode="External"/><Relationship Id="rId61" Type="http://schemas.openxmlformats.org/officeDocument/2006/relationships/hyperlink" Target="http://www.atnet.it/lstron/astro/sistsol/sole.htm" TargetMode="External"/><Relationship Id="rId62" Type="http://schemas.openxmlformats.org/officeDocument/2006/relationships/hyperlink" Target="http://www.atnet.it/lstron/astro/sistsol/sole.htm" TargetMode="External"/><Relationship Id="rId63" Type="http://schemas.openxmlformats.org/officeDocument/2006/relationships/hyperlink" Target="http://www.atnet.it/lstron/astro/sistsol/sole.htm" TargetMode="External"/><Relationship Id="rId64" Type="http://schemas.openxmlformats.org/officeDocument/2006/relationships/hyperlink" Target="http://www.atnet.it/lstron/astro/sistsol/sole.htm" TargetMode="External"/><Relationship Id="rId65" Type="http://schemas.openxmlformats.org/officeDocument/2006/relationships/hyperlink" Target="http://www.mclink.it/mclink/astro/sole.htm" TargetMode="External"/><Relationship Id="rId66" Type="http://schemas.openxmlformats.org/officeDocument/2006/relationships/hyperlink" Target="http://www.astrofilitrentini.it/tnp/sol.html" TargetMode="External"/><Relationship Id="rId67" Type="http://schemas.openxmlformats.org/officeDocument/2006/relationships/hyperlink" Target="http://www.pd.astro.it/MOSTRA/NEW/A2003SUN.HTM" TargetMode="External"/><Relationship Id="rId68" Type="http://schemas.openxmlformats.org/officeDocument/2006/relationships/hyperlink" Target="http://www.geocities.com/elidoro/corpiminori/cm_origine.html" TargetMode="External"/><Relationship Id="rId69" Type="http://schemas.openxmlformats.org/officeDocument/2006/relationships/hyperlink" Target="http://www.geocities.com/elidoro/corpiminori/cm_origine.html" TargetMode="External"/><Relationship Id="rId70" Type="http://schemas.openxmlformats.org/officeDocument/2006/relationships/hyperlink" Target="http://www.geocities.com/elidoro/corpiminori/cm_origine.html" TargetMode="External"/><Relationship Id="rId71" Type="http://schemas.openxmlformats.org/officeDocument/2006/relationships/hyperlink" Target="http://www.geocities.com/elidoro/corpiminori/cm_origine.html" TargetMode="External"/><Relationship Id="rId72" Type="http://schemas.openxmlformats.org/officeDocument/2006/relationships/hyperlink" Target="http://www.geocities.com/elidoro/corpiminori/cm_origine.html" TargetMode="External"/><Relationship Id="rId73" Type="http://schemas.openxmlformats.org/officeDocument/2006/relationships/hyperlink" Target="http://www.geocities.com/elidoro/corpiminori/cm_origine.html" TargetMode="External"/><Relationship Id="rId74" Type="http://schemas.openxmlformats.org/officeDocument/2006/relationships/hyperlink" Target="http://www.geocities.com/elidoro/corpiminori/cm_origine.html" TargetMode="External"/><Relationship Id="rId75" Type="http://schemas.openxmlformats.org/officeDocument/2006/relationships/hyperlink" Target="http://www.bo.astro.it/~universo/venere/Sole-Pianeti/planets/plapro.htm" TargetMode="External"/><Relationship Id="rId76" Type="http://schemas.openxmlformats.org/officeDocument/2006/relationships/hyperlink" Target="http://www.bo.astro.it/~universo/venere/Sole-Pianeti/planets/plapro.htm" TargetMode="External"/><Relationship Id="rId77" Type="http://schemas.openxmlformats.org/officeDocument/2006/relationships/hyperlink" Target="http://www.bo.astro.it/~universo/venere/Sole-Pianeti/planets/plapro.htm" TargetMode="External"/><Relationship Id="rId78" Type="http://schemas.openxmlformats.org/officeDocument/2006/relationships/hyperlink" Target="http://www.bo.astro.it/~universo/venere/Sole-Pianeti/planets/plapro.htm" TargetMode="External"/><Relationship Id="rId79" Type="http://schemas.openxmlformats.org/officeDocument/2006/relationships/hyperlink" Target="http://www.bo.astro.it/~universo/venere/Sole-Pianeti/planets/plapro.htm" TargetMode="External"/><Relationship Id="rId80" Type="http://schemas.openxmlformats.org/officeDocument/2006/relationships/hyperlink" Target="http://www.astrofilitrentini.it/tnp/origin.html" TargetMode="External"/><Relationship Id="rId81" Type="http://schemas.openxmlformats.org/officeDocument/2006/relationships/hyperlink" Target="http://www.astrofilitrentini.it/tnp/origin.html" TargetMode="External"/><Relationship Id="rId82" Type="http://schemas.openxmlformats.org/officeDocument/2006/relationships/hyperlink" Target="http://www.astrofilitrentini.it/tnp/origin.html" TargetMode="External"/><Relationship Id="rId83" Type="http://schemas.openxmlformats.org/officeDocument/2006/relationships/hyperlink" Target="http://www.astrofilitrentini.it/tnp/origin.html" TargetMode="External"/><Relationship Id="rId84" Type="http://schemas.openxmlformats.org/officeDocument/2006/relationships/hyperlink" Target="http://www.astrofilitrentini.it/tnp/origin.html" TargetMode="External"/><Relationship Id="rId85" Type="http://schemas.openxmlformats.org/officeDocument/2006/relationships/hyperlink" Target="http://www.astrofilitrentini.it/tnp/origin.html" TargetMode="External"/><Relationship Id="rId86" Type="http://schemas.openxmlformats.org/officeDocument/2006/relationships/hyperlink" Target="http://www.astrofilitrentini.it/tnp/origin.html" TargetMode="External"/><Relationship Id="rId87" Type="http://schemas.openxmlformats.org/officeDocument/2006/relationships/hyperlink" Target="http://www.astrofilitrentini.it/tnp/origin.html" TargetMode="External"/><Relationship Id="rId88" Type="http://schemas.openxmlformats.org/officeDocument/2006/relationships/hyperlink" Target="http://www.astrofilitrentini.it/tnp/origin.html" TargetMode="External"/><Relationship Id="rId89" Type="http://schemas.openxmlformats.org/officeDocument/2006/relationships/hyperlink" Target="http://digilander.libero.it/andromedda/Sistema%20Solare%20-%20Origine.htm" TargetMode="External"/><Relationship Id="rId9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 u="sng">
                <a:solidFill>
                  <a:srgbClr val="ffff00"/>
                </a:solidFill>
                <a:uFillTx/>
                <a:latin typeface="Times New Roman"/>
              </a:rPr>
              <a:t>WEB QU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819520"/>
            <a:ext cx="7696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AUTORE:  Ilaria Gel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AMBITO:   astrono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LIVELLO:   liceo scient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4952880"/>
            <a:ext cx="16765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rod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4952880"/>
            <a:ext cx="16765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4952880"/>
            <a:ext cx="16761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ce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5791320"/>
            <a:ext cx="167652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5791320"/>
            <a:ext cx="167652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al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002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9966"/>
                </a:solidFill>
                <a:latin typeface="Times New Roman"/>
              </a:rPr>
              <a:t>IL SISTEMA SOL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791320"/>
            <a:ext cx="16761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clu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0" spc="-1" strike="noStrike">
                <a:solidFill>
                  <a:srgbClr val="ffff00"/>
                </a:solidFill>
                <a:latin typeface="Times New Roman"/>
              </a:rPr>
              <a:t>INTRODUZI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438280"/>
            <a:ext cx="78483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OGNI GIORNO SI FANNO NUOVE SCOPERTE RIGUARDANTI L’UNIVERSO CHE CI CIRCONDA, NUOVI SHATTLE VENGONO SPEDITI SU MARTE ALLA RICERCA DI ACQUA, E SI RICERCANO NUOVI PIANE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CERCHIAMO QUINDI DI RIFLETTERE INSIEME SULL’UNIVERSO CHE CI CIRCO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firstslide"/>
          </p:cNvPr>
          <p:cNvSpPr/>
          <p:nvPr/>
        </p:nvSpPr>
        <p:spPr>
          <a:xfrm>
            <a:off x="85345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10800" y="3850"/>
                </a:moveTo>
                <a:lnTo>
                  <a:pt x="13376" y="6461"/>
                </a:ln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lnTo>
                  <a:pt x="17763" y="10813"/>
                </a:lnTo>
                <a:lnTo>
                  <a:pt x="16109" y="10813"/>
                </a:lnTo>
                <a:lnTo>
                  <a:pt x="16109" y="18002"/>
                </a:lnTo>
                <a:lnTo>
                  <a:pt x="5491" y="18002"/>
                </a:lnTo>
                <a:lnTo>
                  <a:pt x="5491" y="10813"/>
                </a:lnTo>
                <a:lnTo>
                  <a:pt x="3837" y="10813"/>
                </a:lnTo>
                <a:close/>
              </a:path>
              <a:path fill="darkenLess" w="21600" h="21626">
                <a:moveTo>
                  <a:pt x="13376" y="6461"/>
                </a:move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close/>
              </a:path>
              <a:path fill="darkenLess" w="21600" h="21626">
                <a:moveTo>
                  <a:pt x="9877" y="14312"/>
                </a:moveTo>
                <a:lnTo>
                  <a:pt x="11723" y="14312"/>
                </a:lnTo>
                <a:lnTo>
                  <a:pt x="11723" y="18002"/>
                </a:lnTo>
                <a:lnTo>
                  <a:pt x="16109" y="18002"/>
                </a:lnTo>
                <a:lnTo>
                  <a:pt x="16109" y="10813"/>
                </a:lnTo>
                <a:lnTo>
                  <a:pt x="5491" y="10813"/>
                </a:lnTo>
                <a:lnTo>
                  <a:pt x="5491" y="18002"/>
                </a:lnTo>
                <a:lnTo>
                  <a:pt x="9877" y="18002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0" spc="-1" strike="noStrike">
                <a:solidFill>
                  <a:srgbClr val="ffff00"/>
                </a:solidFill>
                <a:latin typeface="Times New Roman"/>
              </a:rPr>
              <a:t>COMPI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828800"/>
            <a:ext cx="71625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IL PERCORSO PORTERA’ ALLA FORMULAZIONE DI UN LAVORO COSTITUITO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PRESENTAZIONE MULTIMEDIALE IN POWERPOINT SUL SISTEMA SO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PREPARAZIONE DI UNA OSSERVAZIONE ASTRONOMICA ED EVENTUALE SIMUL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STUDIO SULLA PROBLEMATICA DELLA DEFINIZIONE DI PIANETA: IL CASO SEDNA - PLU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85345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10800" y="3850"/>
                </a:moveTo>
                <a:lnTo>
                  <a:pt x="13376" y="6461"/>
                </a:ln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lnTo>
                  <a:pt x="17763" y="10813"/>
                </a:lnTo>
                <a:lnTo>
                  <a:pt x="16109" y="10813"/>
                </a:lnTo>
                <a:lnTo>
                  <a:pt x="16109" y="18002"/>
                </a:lnTo>
                <a:lnTo>
                  <a:pt x="5491" y="18002"/>
                </a:lnTo>
                <a:lnTo>
                  <a:pt x="5491" y="10813"/>
                </a:lnTo>
                <a:lnTo>
                  <a:pt x="3837" y="10813"/>
                </a:lnTo>
                <a:close/>
              </a:path>
              <a:path fill="darkenLess" w="21600" h="21626">
                <a:moveTo>
                  <a:pt x="13376" y="6461"/>
                </a:move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close/>
              </a:path>
              <a:path fill="darkenLess" w="21600" h="21626">
                <a:moveTo>
                  <a:pt x="9877" y="14312"/>
                </a:moveTo>
                <a:lnTo>
                  <a:pt x="11723" y="14312"/>
                </a:lnTo>
                <a:lnTo>
                  <a:pt x="11723" y="18002"/>
                </a:lnTo>
                <a:lnTo>
                  <a:pt x="16109" y="18002"/>
                </a:lnTo>
                <a:lnTo>
                  <a:pt x="16109" y="10813"/>
                </a:lnTo>
                <a:lnTo>
                  <a:pt x="5491" y="10813"/>
                </a:lnTo>
                <a:lnTo>
                  <a:pt x="5491" y="18002"/>
                </a:lnTo>
                <a:lnTo>
                  <a:pt x="9877" y="18002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0" spc="-1" strike="noStrike">
                <a:solidFill>
                  <a:srgbClr val="ffff00"/>
                </a:solidFill>
                <a:latin typeface="Times New Roman"/>
              </a:rPr>
              <a:t>PROCEDIMEN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133720"/>
            <a:ext cx="822960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ccff"/>
                </a:solidFill>
                <a:latin typeface="Times New Roman"/>
              </a:rPr>
              <a:t>vi dividerete in 3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99ccff"/>
                </a:solidFill>
                <a:latin typeface="Times New Roman"/>
              </a:rPr>
              <a:t>1° gruppo : si occupera’ di raccogliere informazioni sul sistema solare (origine, componenti, cinetica) per poi creare una presentazione powerpoint da esporre al resto dei ragaz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ccff"/>
                </a:solidFill>
                <a:latin typeface="Times New Roman"/>
              </a:rPr>
              <a:t>2° gruppo: con l’aiuto del professore di astronomico M. Castagneto penseranno e progetteranno un’osservazione astronomica da attuare assieme a tutta la classe, ed, un’eventuale simulatione in caso di mal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ccff"/>
                </a:solidFill>
                <a:latin typeface="Times New Roman"/>
              </a:rPr>
              <a:t>3° gruppo: dovrà occuparsi della problematica della definizione di pianeta ed in particolare fare ricerche su sedna e plutone attraverso l’utilizzo di articoli scientifici, internet o documentari. Il lavoro potrà essere presentato sotto diverse forme (powerpoint,documentario..) a seconda dell’inventiva dei ragaz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85345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10800" y="3850"/>
                </a:moveTo>
                <a:lnTo>
                  <a:pt x="13376" y="6461"/>
                </a:ln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lnTo>
                  <a:pt x="17763" y="10813"/>
                </a:lnTo>
                <a:lnTo>
                  <a:pt x="16109" y="10813"/>
                </a:lnTo>
                <a:lnTo>
                  <a:pt x="16109" y="18002"/>
                </a:lnTo>
                <a:lnTo>
                  <a:pt x="5491" y="18002"/>
                </a:lnTo>
                <a:lnTo>
                  <a:pt x="5491" y="10813"/>
                </a:lnTo>
                <a:lnTo>
                  <a:pt x="3837" y="10813"/>
                </a:lnTo>
                <a:close/>
              </a:path>
              <a:path fill="darkenLess" w="21600" h="21626">
                <a:moveTo>
                  <a:pt x="13376" y="6461"/>
                </a:move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close/>
              </a:path>
              <a:path fill="darkenLess" w="21600" h="21626">
                <a:moveTo>
                  <a:pt x="9877" y="14312"/>
                </a:moveTo>
                <a:lnTo>
                  <a:pt x="11723" y="14312"/>
                </a:lnTo>
                <a:lnTo>
                  <a:pt x="11723" y="18002"/>
                </a:lnTo>
                <a:lnTo>
                  <a:pt x="16109" y="18002"/>
                </a:lnTo>
                <a:lnTo>
                  <a:pt x="16109" y="10813"/>
                </a:lnTo>
                <a:lnTo>
                  <a:pt x="5491" y="10813"/>
                </a:lnTo>
                <a:lnTo>
                  <a:pt x="5491" y="18002"/>
                </a:lnTo>
                <a:lnTo>
                  <a:pt x="9877" y="18002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 rot="5347800">
            <a:off x="4991040" y="2857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0" spc="-1" strike="noStrike">
                <a:solidFill>
                  <a:srgbClr val="ffff00"/>
                </a:solidFill>
                <a:latin typeface="Times New Roman"/>
              </a:rPr>
              <a:t>RISOR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87280"/>
            <a:ext cx="8458200" cy="66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://xoomer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virgilio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/>
              </a:rPr>
              <a:t>it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/>
              </a:rPr>
              <a:t>/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fisicaeoltre/news/scopertaacqua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9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0"/>
              </a:rPr>
              <a:t>http://www.italway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1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2"/>
              </a:rPr>
              <a:t>it/astro/solsys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4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5"/>
              </a:rPr>
              <a:t>http://www.studenti.usilu.net/bellomoa/web/index.htm?top.htm&amp;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6"/>
              </a:rPr>
              <a:t>http://www.gaus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7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8"/>
              </a:rPr>
              <a:t>it/ricerche/sedna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9"/>
              </a:rPr>
              <a:t>_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0"/>
              </a:rPr>
              <a:t>vs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1"/>
              </a:rPr>
              <a:t>_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2"/>
              </a:rPr>
              <a:t>nibiru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3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4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5"/>
              </a:rPr>
              <a:t>http://www.focus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6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7"/>
              </a:rPr>
              <a:t>it/notizie/14525_15_3_106.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8"/>
              </a:rPr>
              <a:t>http://www.nasa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9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0"/>
              </a:rPr>
              <a:t>gov/vision/universe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1"/>
              </a:rPr>
              <a:t>/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2"/>
              </a:rPr>
              <a:t>solarsystem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3"/>
              </a:rPr>
              <a:t>/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4"/>
              </a:rPr>
              <a:t>planet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5"/>
              </a:rPr>
              <a:t>_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6"/>
              </a:rPr>
              <a:t>like_body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7"/>
              </a:rPr>
              <a:t>http://www.pd.astro.it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8"/>
              </a:rPr>
              <a:t>/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9"/>
              </a:rPr>
              <a:t>pianetav/L15_13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0"/>
              </a:rPr>
              <a:t>http://www.astrofilitrentini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1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2"/>
              </a:rPr>
              <a:t>it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3"/>
              </a:rPr>
              <a:t>/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4"/>
              </a:rPr>
              <a:t>tnp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5"/>
              </a:rPr>
              <a:t>/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6"/>
              </a:rPr>
              <a:t>meteorites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7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8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9"/>
              </a:rPr>
              <a:t>http://www.astrosurf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0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1"/>
              </a:rPr>
              <a:t>com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2"/>
              </a:rPr>
              <a:t>/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3"/>
              </a:rPr>
              <a:t>cosmoweb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4"/>
              </a:rPr>
              <a:t>/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5"/>
              </a:rPr>
              <a:t>sistemasolare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6"/>
              </a:rPr>
              <a:t>/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7"/>
              </a:rPr>
              <a:t>corpiminori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8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9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0"/>
              </a:rPr>
              <a:t>http://www.atnet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1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2"/>
              </a:rPr>
              <a:t>it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3"/>
              </a:rPr>
              <a:t>/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4"/>
              </a:rPr>
              <a:t>lstron/astro/sistsol/sol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5"/>
              </a:rPr>
              <a:t>http://www.mclink.it/mclink/astro/sol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6"/>
              </a:rPr>
              <a:t>http://www.astrofilitrentini.it/tnp/sol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7"/>
              </a:rPr>
              <a:t>http://www.pd.astro.it/MOSTRA/NEW/A2003SUN.HTM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8"/>
              </a:rPr>
              <a:t>http://www.geocities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9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0"/>
              </a:rPr>
              <a:t>com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1"/>
              </a:rPr>
              <a:t>/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2"/>
              </a:rPr>
              <a:t>elidoro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3"/>
              </a:rPr>
              <a:t>/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4"/>
              </a:rPr>
              <a:t>corpiminori/cm_origine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5"/>
              </a:rPr>
              <a:t>http://www.bo.astro.it/~universo/venere/Sole-Pianeti/planets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6"/>
              </a:rPr>
              <a:t>/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7"/>
              </a:rPr>
              <a:t>plapro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8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9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0"/>
              </a:rPr>
              <a:t>http://www.astrofilitrentini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1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2"/>
              </a:rPr>
              <a:t>it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3"/>
              </a:rPr>
              <a:t>/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4"/>
              </a:rPr>
              <a:t>tnp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5"/>
              </a:rPr>
              <a:t>/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6"/>
              </a:rPr>
              <a:t>origin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7"/>
              </a:rPr>
              <a:t>.</a:t>
            </a: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8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9"/>
              </a:rPr>
              <a:t>http://digilander.libero.it/andromedda/Sistema%20Solare%20-%20Origin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firstslide"/>
          </p:cNvPr>
          <p:cNvSpPr/>
          <p:nvPr/>
        </p:nvSpPr>
        <p:spPr>
          <a:xfrm>
            <a:off x="85345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10800" y="3850"/>
                </a:moveTo>
                <a:lnTo>
                  <a:pt x="13376" y="6461"/>
                </a:ln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lnTo>
                  <a:pt x="17763" y="10813"/>
                </a:lnTo>
                <a:lnTo>
                  <a:pt x="16109" y="10813"/>
                </a:lnTo>
                <a:lnTo>
                  <a:pt x="16109" y="18002"/>
                </a:lnTo>
                <a:lnTo>
                  <a:pt x="5491" y="18002"/>
                </a:lnTo>
                <a:lnTo>
                  <a:pt x="5491" y="10813"/>
                </a:lnTo>
                <a:lnTo>
                  <a:pt x="3837" y="10813"/>
                </a:lnTo>
                <a:close/>
              </a:path>
              <a:path fill="darkenLess" w="21600" h="21626">
                <a:moveTo>
                  <a:pt x="13376" y="6461"/>
                </a:move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close/>
              </a:path>
              <a:path fill="darkenLess" w="21600" h="21626">
                <a:moveTo>
                  <a:pt x="9877" y="14312"/>
                </a:moveTo>
                <a:lnTo>
                  <a:pt x="11723" y="14312"/>
                </a:lnTo>
                <a:lnTo>
                  <a:pt x="11723" y="18002"/>
                </a:lnTo>
                <a:lnTo>
                  <a:pt x="16109" y="18002"/>
                </a:lnTo>
                <a:lnTo>
                  <a:pt x="16109" y="10813"/>
                </a:lnTo>
                <a:lnTo>
                  <a:pt x="5491" y="10813"/>
                </a:lnTo>
                <a:lnTo>
                  <a:pt x="5491" y="18002"/>
                </a:lnTo>
                <a:lnTo>
                  <a:pt x="9877" y="18002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0" spc="-1" strike="noStrike">
                <a:solidFill>
                  <a:srgbClr val="ffff00"/>
                </a:solidFill>
                <a:latin typeface="Times New Roman"/>
              </a:rPr>
              <a:t>VALUTAZI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905120"/>
            <a:ext cx="74674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PER LA VALUTAZIONE SI TERRANNO IN CONSIDERAZIONE DIVERSI ELEMEN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Capacità degli alunni di lavorare cooperando in gr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La capacità di progettare percorso e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Qualità dei prodotti cartacei, visivi o multimed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Qualità dell’esposizione o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firstslide"/>
          </p:cNvPr>
          <p:cNvSpPr/>
          <p:nvPr/>
        </p:nvSpPr>
        <p:spPr>
          <a:xfrm>
            <a:off x="85345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10800" y="3850"/>
                </a:moveTo>
                <a:lnTo>
                  <a:pt x="13376" y="6461"/>
                </a:ln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lnTo>
                  <a:pt x="17763" y="10813"/>
                </a:lnTo>
                <a:lnTo>
                  <a:pt x="16109" y="10813"/>
                </a:lnTo>
                <a:lnTo>
                  <a:pt x="16109" y="18002"/>
                </a:lnTo>
                <a:lnTo>
                  <a:pt x="5491" y="18002"/>
                </a:lnTo>
                <a:lnTo>
                  <a:pt x="5491" y="10813"/>
                </a:lnTo>
                <a:lnTo>
                  <a:pt x="3837" y="10813"/>
                </a:lnTo>
                <a:close/>
              </a:path>
              <a:path fill="darkenLess" w="21600" h="21626">
                <a:moveTo>
                  <a:pt x="13376" y="6461"/>
                </a:move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close/>
              </a:path>
              <a:path fill="darkenLess" w="21600" h="21626">
                <a:moveTo>
                  <a:pt x="9877" y="14312"/>
                </a:moveTo>
                <a:lnTo>
                  <a:pt x="11723" y="14312"/>
                </a:lnTo>
                <a:lnTo>
                  <a:pt x="11723" y="18002"/>
                </a:lnTo>
                <a:lnTo>
                  <a:pt x="16109" y="18002"/>
                </a:lnTo>
                <a:lnTo>
                  <a:pt x="16109" y="10813"/>
                </a:lnTo>
                <a:lnTo>
                  <a:pt x="5491" y="10813"/>
                </a:lnTo>
                <a:lnTo>
                  <a:pt x="5491" y="18002"/>
                </a:lnTo>
                <a:lnTo>
                  <a:pt x="9877" y="18002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0" spc="-1" strike="noStrike">
                <a:solidFill>
                  <a:srgbClr val="ffff00"/>
                </a:solidFill>
                <a:latin typeface="Times New Roman"/>
              </a:rPr>
              <a:t>CONCLUSI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981080"/>
            <a:ext cx="8153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RIASSUMI L’ESPERIENZA FATTA EVIDENZIA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cosa hai pensato quando ti è stato presentato il pro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se ti è piaciuto lavorare in gr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quali difficoltà hai in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99ccff"/>
                </a:solidFill>
                <a:latin typeface="Times New Roman"/>
              </a:rPr>
              <a:t>come si può migliorare l’esper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85345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10800" y="3850"/>
                </a:moveTo>
                <a:lnTo>
                  <a:pt x="13376" y="6461"/>
                </a:ln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lnTo>
                  <a:pt x="17763" y="10813"/>
                </a:lnTo>
                <a:lnTo>
                  <a:pt x="16109" y="10813"/>
                </a:lnTo>
                <a:lnTo>
                  <a:pt x="16109" y="18002"/>
                </a:lnTo>
                <a:lnTo>
                  <a:pt x="5491" y="18002"/>
                </a:lnTo>
                <a:lnTo>
                  <a:pt x="5491" y="10813"/>
                </a:lnTo>
                <a:lnTo>
                  <a:pt x="3837" y="10813"/>
                </a:lnTo>
                <a:close/>
              </a:path>
              <a:path fill="darkenLess" w="21600" h="21626">
                <a:moveTo>
                  <a:pt x="13376" y="6461"/>
                </a:move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close/>
              </a:path>
              <a:path fill="darkenLess" w="21600" h="21626">
                <a:moveTo>
                  <a:pt x="9877" y="14312"/>
                </a:moveTo>
                <a:lnTo>
                  <a:pt x="11723" y="14312"/>
                </a:lnTo>
                <a:lnTo>
                  <a:pt x="11723" y="18002"/>
                </a:lnTo>
                <a:lnTo>
                  <a:pt x="16109" y="18002"/>
                </a:lnTo>
                <a:lnTo>
                  <a:pt x="16109" y="10813"/>
                </a:lnTo>
                <a:lnTo>
                  <a:pt x="5491" y="10813"/>
                </a:lnTo>
                <a:lnTo>
                  <a:pt x="5491" y="18002"/>
                </a:lnTo>
                <a:lnTo>
                  <a:pt x="9877" y="18002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lvia&amp;ilaria</cp:lastModifiedBy>
  <dcterms:modified xsi:type="dcterms:W3CDTF">2005-02-26T13:48:45Z</dcterms:modified>
  <cp:revision>18</cp:revision>
  <dc:subject/>
  <dc:title>PowerPoint Presentation</dc:title>
</cp:coreProperties>
</file>