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9D0-CCB3-4B30-BF1B-C9368FB2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2DD-E398-4639-A8CD-584BF85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0A6-4107-458F-B965-CE7B92E0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6B4-CD50-4CAA-9E26-C2220BE5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CF3-3FA2-4280-B05F-0021C128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0A2-E383-43F3-8113-DF430D41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9DF-7A4F-4EFE-B6E2-503C450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BA92-22E7-4CFE-83DD-35722F8D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8FA3-1116-4CBA-A822-CECF28D9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F239-30C5-4C01-BCF8-C050893B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C2B5-7733-4573-93F2-2AD94B65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E21-CA8C-41BD-9A49-547695C7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246-83A8-4670-A176-65481FE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920E-6655-4912-8873-AFD02CF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37F-0AF5-44BF-A800-E33E7AB4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1623-1FE0-46BC-A5FF-B062EEC4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3200-2C03-40D5-AB8B-B46505FF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2B5-5208-4364-937A-33AC949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1A-A701-4B5A-B473-8E55608B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D2B-5931-4C8A-AFD5-D40A78A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E7B-D0DD-454B-8790-8B353F6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564-C824-427B-939E-1E23053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E2C-0621-4622-9ADB-45A7FEB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989-5AD2-40D2-9D6C-86E8E92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2C58-450B-4B36-9D9F-0F16000EF2AA}" type="slidenum">
              <a:rPr b="0" lang="it-IT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FB1-9552-486B-9C13-5D2683CE7C21}" type="slidenum">
              <a:rPr b="0" lang="it-IT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285640"/>
            <a:ext cx="7694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PPRENDIMENTO  IN  RETE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limentazion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Oggi e nel Rinascimento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56610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Prof.sa Bruna Consoli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Bussoleno (TO)  -   Anno  scolastico 2003 - 0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76280"/>
            <a:ext cx="8569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Liceo “Norberto Rosa” – ICS Cond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MAGINI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LIMENTAZIONE E  AR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752480"/>
            <a:ext cx="6172200" cy="91440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Garamond"/>
              </a:rPr>
              <a:t>www.google.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Garamond"/>
              </a:rPr>
              <a:t>IMMAG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Leonardo: “Ultima Cena” ……… e altre ultime ce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Bruegel: “Banchetto nuziale” ………..e altre ope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Tiepolo: “Banchetto di Cleopatra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Veronese: “Convito in casa Levi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arracci: “Il mangiafagioli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Caravaggio: “Bacco” , “Canestro di frutta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Arcimboldo: opere var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L  COMMERCIO    E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 NAVI MERCANTIL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758960"/>
          <a:ext cx="7456320" cy="365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58960"/>
                    <a:ext cx="74563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762120"/>
            <a:ext cx="6858000" cy="3809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cc"/>
              </a:gs>
              <a:gs pos="100000">
                <a:srgbClr val="ff9999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Handwriting"/>
              </a:rPr>
              <a:t>Buon lavo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54440" y="4723200"/>
            <a:ext cx="95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9efee"/>
                </a:solidFill>
                <a:latin typeface="Garamond"/>
              </a:rPr>
              <a:t>da Francesca, Paola, Cristina, Elena, Chiara, Claudio, Helm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l materiale di riferiment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76520"/>
            <a:ext cx="7772400" cy="426708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1010"/>
                </a:solidFill>
                <a:latin typeface="Lucida Handwriting"/>
              </a:rPr>
              <a:t>SITO  DELLA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1010"/>
                </a:solidFill>
                <a:latin typeface="Lucida Handwriting"/>
              </a:rPr>
              <a:t>www.liceonorbertorosa.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1010"/>
                </a:solidFill>
                <a:latin typeface="Lucida Handwriting"/>
              </a:rPr>
              <a:t>Cooperativ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l percors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3581280" cy="990720"/>
          </a:xfrm>
          <a:prstGeom prst="rightArrowCallout">
            <a:avLst>
              <a:gd name="adj1" fmla="val 25002"/>
              <a:gd name="adj2" fmla="val 25000"/>
              <a:gd name="adj3" fmla="val 60247"/>
              <a:gd name="adj4" fmla="val 66667"/>
            </a:avLst>
          </a:prstGeom>
          <a:gradFill rotWithShape="0">
            <a:gsLst>
              <a:gs pos="0">
                <a:srgbClr val="33cccc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LO  SCE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666880"/>
            <a:ext cx="3581280" cy="990720"/>
          </a:xfrm>
          <a:prstGeom prst="rightArrowCallout">
            <a:avLst>
              <a:gd name="adj1" fmla="val 25002"/>
              <a:gd name="adj2" fmla="val 25000"/>
              <a:gd name="adj3" fmla="val 60247"/>
              <a:gd name="adj4" fmla="val 66667"/>
            </a:avLst>
          </a:prstGeom>
          <a:gradFill rotWithShape="0">
            <a:gsLst>
              <a:gs pos="0">
                <a:srgbClr val="33cccc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I  COMPI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3581280" cy="990720"/>
          </a:xfrm>
          <a:prstGeom prst="rightArrowCallout">
            <a:avLst>
              <a:gd name="adj1" fmla="val 25002"/>
              <a:gd name="adj2" fmla="val 25000"/>
              <a:gd name="adj3" fmla="val 60247"/>
              <a:gd name="adj4" fmla="val 66667"/>
            </a:avLst>
          </a:prstGeom>
          <a:gradFill rotWithShape="0">
            <a:gsLst>
              <a:gs pos="0">
                <a:srgbClr val="33cccc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LE  RIS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105520"/>
            <a:ext cx="3581280" cy="990360"/>
          </a:xfrm>
          <a:prstGeom prst="rightArrowCallout">
            <a:avLst>
              <a:gd name="adj1" fmla="val 25002"/>
              <a:gd name="adj2" fmla="val 25000"/>
              <a:gd name="adj3" fmla="val 60269"/>
              <a:gd name="adj4" fmla="val 66667"/>
            </a:avLst>
          </a:prstGeom>
          <a:gradFill rotWithShape="0">
            <a:gsLst>
              <a:gs pos="0">
                <a:srgbClr val="33cccc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LA  RICER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21932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  ruota  del tempo fa incontrare 2 viaggiat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 epoche d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e parlano del cib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28954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 4 gruppi si impegnano s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 aspetti diversi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88620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gni gruppo utilizza le proprie risorse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87692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gni gruppo effettua la ricerca e prepara  una presentazione sintetica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 Grupp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Garamond"/>
              </a:rPr>
              <a:t>I  CIB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ali sono gli alimen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e si prepara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Garamond"/>
              </a:rPr>
              <a:t>L’APPROVVIGGIONAM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e cosa si produce in propr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e cosa si acquis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Garamond"/>
              </a:rPr>
              <a:t>LE  ROTTE  COMMERCIA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 mercati, i negozi, i supermercati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 rotte commerciali e i mezzi di traspor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Garamond"/>
              </a:rPr>
              <a:t>IL  BILANCIO ENERGETI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sti quotidia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sti delle fes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gettazione cooperativa”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362320"/>
            <a:ext cx="2057400" cy="259056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15" y="6500"/>
                </a:lnTo>
                <a:lnTo>
                  <a:pt x="4315" y="10017"/>
                </a:lnTo>
                <a:lnTo>
                  <a:pt x="10017" y="10017"/>
                </a:lnTo>
                <a:lnTo>
                  <a:pt x="10017" y="4315"/>
                </a:lnTo>
                <a:lnTo>
                  <a:pt x="6500" y="4315"/>
                </a:lnTo>
                <a:lnTo>
                  <a:pt x="10800" y="0"/>
                </a:lnTo>
                <a:lnTo>
                  <a:pt x="15100" y="4315"/>
                </a:lnTo>
                <a:lnTo>
                  <a:pt x="11583" y="4315"/>
                </a:lnTo>
                <a:lnTo>
                  <a:pt x="11583" y="10017"/>
                </a:lnTo>
                <a:lnTo>
                  <a:pt x="17285" y="10017"/>
                </a:lnTo>
                <a:lnTo>
                  <a:pt x="17285" y="6500"/>
                </a:lnTo>
                <a:lnTo>
                  <a:pt x="21600" y="10800"/>
                </a:lnTo>
                <a:lnTo>
                  <a:pt x="17285" y="15100"/>
                </a:lnTo>
                <a:lnTo>
                  <a:pt x="17285" y="11583"/>
                </a:lnTo>
                <a:lnTo>
                  <a:pt x="11583" y="11583"/>
                </a:lnTo>
                <a:lnTo>
                  <a:pt x="11583" y="17285"/>
                </a:lnTo>
                <a:lnTo>
                  <a:pt x="15100" y="17285"/>
                </a:lnTo>
                <a:lnTo>
                  <a:pt x="10800" y="21600"/>
                </a:lnTo>
                <a:lnTo>
                  <a:pt x="6500" y="17285"/>
                </a:lnTo>
                <a:lnTo>
                  <a:pt x="10017" y="17285"/>
                </a:lnTo>
                <a:lnTo>
                  <a:pt x="10017" y="11583"/>
                </a:lnTo>
                <a:lnTo>
                  <a:pt x="4315" y="11583"/>
                </a:lnTo>
                <a:lnTo>
                  <a:pt x="4315" y="15100"/>
                </a:lnTo>
                <a:close/>
              </a:path>
            </a:pathLst>
          </a:custGeom>
          <a:gradFill rotWithShape="0">
            <a:gsLst>
              <a:gs pos="0">
                <a:srgbClr val="b9efee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828800"/>
            <a:ext cx="3429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ART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Scuola Media lavora sul tema dell’aliment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Opportunità di collaborazione in sede Corso Monfor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Sperimentazione di approccio coop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752480"/>
            <a:ext cx="41148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Scuola Media: definizione dei gruppi di lav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Liceo:                          ricerca delle risorse, analisi delle fonti, predisposizione materiale di rife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Fase condivisa:               tutti a fare ricerca insi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pprendimento cooperativo”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Hanno il ruolo di affiancare la ricerca per quanto riguarda l’epoca rinasciment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Hanno il compito di cercare e selezionare siti Internet specifici e adeguati nel contenuto e nel linguagg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Hanno il compito di utilizzare i siti indicati per effettuare la ricer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Hanno il compito di confrontare i contenuti, individuare i nodi cruciale ed elaborare la sinte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219320"/>
            <a:ext cx="4114800" cy="761760"/>
          </a:xfrm>
          <a:prstGeom prst="downArrowCallout">
            <a:avLst>
              <a:gd name="adj1" fmla="val 135055"/>
              <a:gd name="adj2" fmla="val 13504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99"/>
              </a:gs>
              <a:gs pos="100000">
                <a:srgbClr val="b9efe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ALLIEVI    LIC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219320"/>
            <a:ext cx="4114800" cy="761760"/>
          </a:xfrm>
          <a:prstGeom prst="downArrowCallout">
            <a:avLst>
              <a:gd name="adj1" fmla="val 135055"/>
              <a:gd name="adj2" fmla="val 135043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99"/>
              </a:gs>
              <a:gs pos="100000">
                <a:srgbClr val="b9efe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ALLIEVI    SCUO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9efee"/>
                </a:solidFill>
                <a:latin typeface="Garamond"/>
              </a:rPr>
              <a:t>ALIMENTAZIONE nel 1500-1600</a:t>
            </a:r>
            <a:endParaRPr b="1" lang="en-US" sz="4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ITI   SPECIFICI   DELL’EPO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SVILUPPO  STORICO  RELATIVO AL PANE E AI LATTICIN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LIMENTAZIONE  E  AR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LIMENTAZIONEE BILANCIO ENERGETIC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ITI SPECIFI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1440" y="1297080"/>
          <a:ext cx="6945480" cy="49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1440" y="1297080"/>
                    <a:ext cx="694548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TORIA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L PANE E DEL LAT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752480"/>
            <a:ext cx="3124080" cy="434340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ARTICO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tratti 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006666"/>
                </a:solidFill>
                <a:latin typeface="Garamond"/>
              </a:rPr>
              <a:t>L’arte Bianc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Settimanale de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Federazione Italia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Panificator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Pasticcie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e Aff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752480"/>
            <a:ext cx="3124080" cy="434340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MANIF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tratto 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mos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Garamond"/>
              </a:rPr>
              <a:t>“</a:t>
            </a:r>
            <a:r>
              <a:rPr b="1" lang="it-IT" sz="2800" spc="-1" strike="noStrike">
                <a:solidFill>
                  <a:srgbClr val="006666"/>
                </a:solidFill>
                <a:latin typeface="Garamond"/>
              </a:rPr>
              <a:t>Vita di Montagn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Ceill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Quey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Fra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Garamond"/>
              </a:rPr>
              <a:t>estate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ABELLE 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ILANCIO  ENERGETIC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752480"/>
            <a:ext cx="6172200" cy="342900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Garamond"/>
              </a:rPr>
              <a:t>STRAL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Garamond"/>
              </a:rPr>
              <a:t>da dis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Progetto </a:t>
            </a:r>
            <a:r>
              <a:rPr b="1" lang="en-US" sz="2800" spc="-1" strike="noStrike">
                <a:solidFill>
                  <a:srgbClr val="006666"/>
                </a:solidFill>
                <a:latin typeface="Garamond"/>
              </a:rPr>
              <a:t>“Studio dell’alimentazion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Biennio Scient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Garamond"/>
              </a:rPr>
              <a:t>Anno scolastico 2002-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00:50Z</dcterms:created>
  <dc:creator>vaio_grx717</dc:creator>
  <dc:description/>
  <dc:language>en-US</dc:language>
  <cp:lastModifiedBy>Consolini</cp:lastModifiedBy>
  <dcterms:modified xsi:type="dcterms:W3CDTF">2004-05-04T16:19:30Z</dcterms:modified>
  <cp:revision>19</cp:revision>
  <dc:subject/>
  <dc:title>APPRENDIMENTO IN RETE mediante WEBQUEST</dc:title>
</cp:coreProperties>
</file>