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3436-2FBE-4542-8655-3893BD56A0E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primo presenta un testo esplicativo, parzialmente interattivo, con link a laboratori, approfondimenti e curiosità; vi sono all’interno del sito anche proposte di attività didattiche sull’a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secondo è un testo curioso, ricco di spunti sulla foglia e l’attività fotosintet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 terzo è presente molto materiale (risorse multimediali). La pecca è che per consultare il materiale di approfondimento è necessario iscriver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48B-3FC7-4679-8A01-23CCCC19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87C-064F-4ABB-A107-B4E3AB9F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0D7-67DD-4AE6-8AB8-64C4EF67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AAC-A2CB-4B37-A124-922F5938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567-5939-4E05-A988-228DA64F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530-0D99-4A50-8D03-849C0CFB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D03-52C9-4054-8499-B736A8D2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0F3-BA36-42E1-9545-04CB1D35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083-8A02-4FAA-8C1A-621D554D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1C2-E3EE-418A-992B-77AF41B4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D74-1F01-40AB-8ED5-03B3B012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F3B-2E28-41E9-A3A3-9282C106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C80F-6B04-48DE-8CDC-226B82ED2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anet.org/cambiarearia/cosaserve/fotosintesi.htm" TargetMode="External"/><Relationship Id="rId2" Type="http://schemas.openxmlformats.org/officeDocument/2006/relationships/hyperlink" Target="http://www.flanet.org/cambiarearia/cosaserve/fotosintesi.htm" TargetMode="External"/><Relationship Id="rId3" Type="http://schemas.openxmlformats.org/officeDocument/2006/relationships/hyperlink" Target="http://www.flanet.org/cambiarearia/cosaserve/fotosintesi.htm" TargetMode="External"/><Relationship Id="rId4" Type="http://schemas.openxmlformats.org/officeDocument/2006/relationships/hyperlink" Target="http://www.flanet.org/cambiarearia/cosaserve/fotosintesi.htm" TargetMode="External"/><Relationship Id="rId5" Type="http://schemas.openxmlformats.org/officeDocument/2006/relationships/hyperlink" Target="http://www.flanet.org/cambiarearia/cosaserve/fotosintesi.htm" TargetMode="External"/><Relationship Id="rId6" Type="http://schemas.openxmlformats.org/officeDocument/2006/relationships/hyperlink" Target="http://www.flanet.org/cambiarearia/cosaserve/fotosintesi.htm" TargetMode="External"/><Relationship Id="rId7" Type="http://schemas.openxmlformats.org/officeDocument/2006/relationships/hyperlink" Target="http://www.flanet.org/cambiarearia/cosaserve/fotosintesi.htm" TargetMode="External"/><Relationship Id="rId8" Type="http://schemas.openxmlformats.org/officeDocument/2006/relationships/hyperlink" Target="http://www.flanet.org/cambiarearia/cosaserve/fotosintesi.htm" TargetMode="External"/><Relationship Id="rId9" Type="http://schemas.openxmlformats.org/officeDocument/2006/relationships/hyperlink" Target="http://www.flanet.org/cambiarearia/cosaserve/fotosintesi.htm" TargetMode="External"/><Relationship Id="rId10" Type="http://schemas.openxmlformats.org/officeDocument/2006/relationships/hyperlink" Target="http://www.flanet.org/cambiarearia/cosaserve/fotosintesi.htm" TargetMode="External"/><Relationship Id="rId11" Type="http://schemas.openxmlformats.org/officeDocument/2006/relationships/hyperlink" Target="http://utenti.quipo.it/gruppodellerbario/cartella%20servizi%5Cmiracolo%20foglia.htm" TargetMode="External"/><Relationship Id="rId12" Type="http://schemas.openxmlformats.org/officeDocument/2006/relationships/hyperlink" Target="http://utenti.quipo.it/gruppodellerbario/cartella%20servizi%5Cmiracolo%20foglia.htm" TargetMode="External"/><Relationship Id="rId13" Type="http://schemas.openxmlformats.org/officeDocument/2006/relationships/hyperlink" Target="http://utenti.quipo.it/gruppodellerbario/cartella%20servizi%5Cmiracolo%20foglia.htm" TargetMode="External"/><Relationship Id="rId14" Type="http://schemas.openxmlformats.org/officeDocument/2006/relationships/hyperlink" Target="http://utenti.quipo.it/gruppodellerbario/cartella%20servizi%5Cmiracolo%20foglia.htm" TargetMode="External"/><Relationship Id="rId15" Type="http://schemas.openxmlformats.org/officeDocument/2006/relationships/hyperlink" Target="http://utenti.quipo.it/gruppodellerbario/cartella%20servizi%5Cmiracolo%20foglia.htm" TargetMode="External"/><Relationship Id="rId16" Type="http://schemas.openxmlformats.org/officeDocument/2006/relationships/hyperlink" Target="http://utenti.quipo.it/gruppodellerbario/cartella%20servizi%5Cmiracolo%20foglia.htm" TargetMode="External"/><Relationship Id="rId17" Type="http://schemas.openxmlformats.org/officeDocument/2006/relationships/hyperlink" Target="http://utenti.quipo.it/gruppodellerbario/cartella%20servizi%5Cmiracolo%20foglia.htm" TargetMode="External"/><Relationship Id="rId18" Type="http://schemas.openxmlformats.org/officeDocument/2006/relationships/hyperlink" Target="http://utenti.quipo.it/gruppodellerbario/cartella%20servizi%5Cmiracolo%20foglia.htm" TargetMode="External"/><Relationship Id="rId19" Type="http://schemas.openxmlformats.org/officeDocument/2006/relationships/hyperlink" Target="http://it.encarta.msn.com/" TargetMode="External"/><Relationship Id="rId20" Type="http://schemas.openxmlformats.org/officeDocument/2006/relationships/hyperlink" Target="http://it.encarta.msn.com/" TargetMode="External"/><Relationship Id="rId21" Type="http://schemas.openxmlformats.org/officeDocument/2006/relationships/hyperlink" Target="http://it.encarta.msn.com/" TargetMode="External"/><Relationship Id="rId22" Type="http://schemas.openxmlformats.org/officeDocument/2006/relationships/hyperlink" Target="http://it.encarta.msn.com/" TargetMode="External"/><Relationship Id="rId23" Type="http://schemas.openxmlformats.org/officeDocument/2006/relationships/hyperlink" Target="http://it.encarta.msn.com/" TargetMode="External"/><Relationship Id="rId24" Type="http://schemas.openxmlformats.org/officeDocument/2006/relationships/hyperlink" Target="http://it.encarta.msn.com/" TargetMode="External"/><Relationship Id="rId25" Type="http://schemas.openxmlformats.org/officeDocument/2006/relationships/hyperlink" Target="http://it.encarta.msn.com/" TargetMode="External"/><Relationship Id="rId26" Type="http://schemas.openxmlformats.org/officeDocument/2006/relationships/image" Target="../media/image6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einaud"/>
              </a:rPr>
              <a:t>Il comitato scientifico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Peinaud"/>
              </a:rPr>
              <a:t>l’importanza delle pian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NA00433_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2709720" cy="335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655308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Esempio di possibile WebQuest realizzato da Daniele Facchine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00400" y="1219320"/>
            <a:ext cx="289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inaud"/>
              </a:rPr>
              <a:t>Introdu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20010_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346480" cy="1725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666880"/>
            <a:ext cx="495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a salvaguardia delle foreste e il rimboschimento delle aree degradate sono un impegno che i Paesi del mondo devono prendere per salvaguardare la sopravvivenza del pian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876920"/>
            <a:ext cx="83822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 politici che hanno il il dovere di prendere importanti decisioni spesso hanno scarse conoscenze scientifiche: il vostro compito è quello di fornire loro le giuste informazioni per comprendere l’importante ruolo che svolgono le piante sulla T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3505320"/>
            <a:ext cx="990360" cy="1218960"/>
          </a:xfrm>
          <a:prstGeom prst="downArrow">
            <a:avLst>
              <a:gd name="adj1" fmla="val 50000"/>
              <a:gd name="adj2" fmla="val 307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E01561_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2901960" cy="192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838080"/>
            <a:ext cx="462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einaud"/>
              </a:rPr>
              <a:t>Compi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349360"/>
            <a:ext cx="495288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l comitato scientifico ha il compito di preparare 3 presentazioni che chiariscano in modo schematico ai politi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Quali sono le caratteristiche peculiari della cellula vegeta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he cos’è il processo di fotosintes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Quali caratteristiche hanno sviluppato le piante per migliorare il processo di fotosinte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2949480" cy="313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60948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inaud"/>
              </a:rPr>
              <a:t>Procedi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609480"/>
            <a:ext cx="495288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a classe si dividerà in tre gruppi e, utilizzando le informazioni che si possono trovare in re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l primo gruppo dovrà preparare la ricostruzione di una cellula vegetale in cui siano ben evidenti le strutture che la caratterizzano con le funzioni che svolgon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l secondo gruppo dovrà preparare una mappa che ricostruisca il processo di fotosintesi (dove avviene, cosa utilizza e cosa produ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l terzo gruppo dovrà, in riferimento alla fotosintesi, presentare in maniera grafica le strutture che permettono alle piante di svolgere al meglio la fotosinte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E01903_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335268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4120" y="205740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inaud"/>
              </a:rPr>
              <a:t>Risors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371600"/>
            <a:ext cx="49532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Per lo svolgimento del lavoro è possibile cercare informazioni sui seguenti siti intern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Fondazione Lombardia per l’Ambiente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1"/>
              </a:rPr>
              <a:t>http://www.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2"/>
              </a:rPr>
              <a:t>flanet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3"/>
              </a:rPr>
              <a:t>.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4"/>
              </a:rPr>
              <a:t>org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5"/>
              </a:rPr>
              <a:t>/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6"/>
              </a:rPr>
              <a:t>cambiarearia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7"/>
              </a:rPr>
              <a:t>/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8"/>
              </a:rPr>
              <a:t>cosaserve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9"/>
              </a:rPr>
              <a:t>/fotosintesi.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10"/>
              </a:rPr>
              <a:t>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Associazione per la botanica “Il gruppo dell’erbario”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11"/>
              </a:rPr>
              <a:t>utenti.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12"/>
              </a:rPr>
              <a:t>quipo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13"/>
              </a:rPr>
              <a:t>.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14"/>
              </a:rPr>
              <a:t>it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15"/>
              </a:rPr>
              <a:t>/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16"/>
              </a:rPr>
              <a:t>gruppodellerbario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17"/>
              </a:rPr>
              <a:t>/cartella%20servizi%5Cmiracolo%20foglia.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18"/>
              </a:rPr>
              <a:t>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Enciclopedia Online Encarta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19"/>
              </a:rPr>
              <a:t>it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20"/>
              </a:rPr>
              <a:t>.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21"/>
              </a:rPr>
              <a:t>encarta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22"/>
              </a:rPr>
              <a:t>.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23"/>
              </a:rPr>
              <a:t>msn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24"/>
              </a:rPr>
              <a:t>.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Century Gothic"/>
                <a:hlinkClick r:id="rId25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S01070_" descr=""/>
          <p:cNvPicPr/>
          <p:nvPr/>
        </p:nvPicPr>
        <p:blipFill>
          <a:blip r:embed="rId26"/>
          <a:stretch/>
        </p:blipFill>
        <p:spPr>
          <a:xfrm>
            <a:off x="5486400" y="4343400"/>
            <a:ext cx="3130560" cy="216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791320" y="129528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inaud"/>
              </a:rPr>
              <a:t>Valut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81080"/>
            <a:ext cx="5105520" cy="37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’attività sarà valutata consider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a capacità di leggere il testo scientifico e di cogliere le informazioni importa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a capacità di lavorare in gruppo collaborando con gli altr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a capacità di organizzare e di esporre le informazioni raccol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’abilità nell’utilizzo dei software e nella individuazione di ulteriori collegamenti pertinenti all’argo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N00106_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3160800" cy="2716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8920" y="40464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inaud"/>
              </a:rPr>
              <a:t>Conclu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219320"/>
            <a:ext cx="5410080" cy="453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lla conclusione della nostra indagine, proviamo a rispondere alle seguenti doma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Quali sono le due funzioni fondamentali che le piante svolgono e che non possiamo riprodurre con le nostre tecnologi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che modo le piante possono partecipare alla riduzione dell’effetto serra dato dall’aumento della concentrazione di anidride carbonica in atmosfe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e informazioni che abbiamo prodotto saranno utili ai politici per prendere decisioni più ragion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590920" cy="215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2:16:07Z</dcterms:created>
  <dc:creator>d</dc:creator>
  <dc:description/>
  <dc:language>en-US</dc:language>
  <cp:lastModifiedBy> </cp:lastModifiedBy>
  <dcterms:modified xsi:type="dcterms:W3CDTF">2007-01-12T08:32:02Z</dcterms:modified>
  <cp:revision>13</cp:revision>
  <dc:subject/>
  <dc:title>Presentazione di PowerPoint</dc:title>
</cp:coreProperties>
</file>